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8748713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E2DF0D-A696-49C6-9BBA-87E40329A896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79440" y="696960"/>
            <a:ext cx="44467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3967200" y="882972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381BB2-456C-4B9B-9FFE-A3F8121839D7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7A8-30F6-42C2-9905-709150C7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70D-E299-4149-B38B-009F359A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7CA-EA71-4CCA-9967-73A8BA98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996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1800" y="160020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996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1800" y="3964320"/>
            <a:ext cx="253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579-B7F0-4B49-9843-90878FAB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B73-FC44-4054-9D9F-AE1A9C9C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2CC-66CD-4CF1-891C-0506F2DF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253-37D1-499A-A94C-0DE4A6E3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870-DE83-472B-BD8C-CE2DD724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274320"/>
            <a:ext cx="78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806-84EB-4534-9D56-FD0E2011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D59-C9B8-4E3C-B6F1-EB455743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2280" y="396432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27B-D3D6-4C94-B9F4-D9CAC193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2280" y="1600200"/>
            <a:ext cx="384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3964320"/>
            <a:ext cx="7872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259-8627-436F-B899-47A65364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2743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8120" y="1600200"/>
            <a:ext cx="7872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776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CB1F-A226-492C-BEA0-1B46BA6E19FE}" type="datetime">
              <a:rPr b="0" lang="es-CO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9440" y="6356520"/>
            <a:ext cx="276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7012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8633-F82C-4C7C-BFA7-BE13C612573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4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09480" y="1599840"/>
            <a:ext cx="7508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CALIDA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alibri"/>
                <a:ea typeface="MS PGothic"/>
              </a:rPr>
              <a:t>(DE 0 A 42 PU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3DA7-A38E-495E-9142-554E8FA0E1F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5500-FFD8-45E7-8711-9192B7154C4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13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15" name="CuadroTexto 1"/>
          <p:cNvSpPr/>
          <p:nvPr/>
        </p:nvSpPr>
        <p:spPr>
          <a:xfrm>
            <a:off x="1249200" y="304920"/>
            <a:ext cx="39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Z COORDINADOR HASTA 42 PU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6640" y="1311120"/>
          <a:ext cx="7743960" cy="5430960"/>
        </p:xfrm>
        <a:graphic>
          <a:graphicData uri="http://schemas.openxmlformats.org/drawingml/2006/table">
            <a:tbl>
              <a:tblPr/>
              <a:tblGrid>
                <a:gridCol w="5950080"/>
                <a:gridCol w="789120"/>
                <a:gridCol w="1004760"/>
              </a:tblGrid>
              <a:tr h="57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IRECCIÓN DE LA ACTUACIÓN JUDICIAL ADMINISTRATIVA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2 PUNTOS)</a:t>
                      </a: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PLICA ANÁLISIS DE LA DECI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Oportunidad en la gestión administrativa.</a:t>
                      </a: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examinará la oportunidad e impulso de la gestión administrativa y el cumplimiento de los términos en la programación de las actuaciones y audiencias y el uso de las tecnologías de la información y las comunicaciones en la gestión y trámite de los procesos judiciales, con el fin de facilitar y agilizar el acceso a la justicia, así como ampliar su cobertu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968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ción del trámite administrativo y/o judicial. Se tendrá en cuenta que las actuaciones se adelanten con base en los principios de acceso a la administración de justicia, celeridad, eficiencia, eficacia y respeto de los derechos, entre otros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iciencia, y respeto por el derecho entre los otr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DE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333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- ANÁLISIS DE LA DECISIÓN .(20 PUNTO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19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-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 Hasta 6 puntos. Este aspecto se calificará considerando la relevancia que cada uno de estos aspectos corresponda, según la naturaleza del proceso y la situación planteada en el mism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DE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UNTAJE ASIG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1599840"/>
            <a:ext cx="756792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ara los funcionarios con conocimiento exclusivo en extinción de dominio y lavado de activos y exclusivo de procesos de Foncolpuertos y Cajanal, el procedimiento se adelantara de acuerdo a lo establecido para los Jueces Penales y Magistrados de las Salas Penales de los Tribunales Superiores, en cuanto a sus competencias constitucionales respecto de acciones de tutela y habeas corpu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os subfactores y puntajes de evaluación corresponderán a los señalados en los artículos 30 y s.s del Acuerdo.(Formulario General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B0AB-9E50-4EAC-84B6-A79E623817D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2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22" name="CuadroTexto 1"/>
          <p:cNvSpPr/>
          <p:nvPr/>
        </p:nvSpPr>
        <p:spPr>
          <a:xfrm>
            <a:off x="1249200" y="268200"/>
            <a:ext cx="38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FUNCIONARIOS ESPECIALIZADOS EN EXTINCIÓN DE DOMINIO Y LAVADO DE ACTIVOS Y FONCOLPUERTOS Y CAJ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9280" y="1798560"/>
            <a:ext cx="756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superior funcional solicitará una relación de procesos a cargo del funcionario evaluado, remitirá copias de las mismas y al azar se seleccionarán un mínimo de 5 providencias o actuaciones, en caso de no contar con el mínimo requerido se realizara la calificación con las que hubie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El Factor Calidad, se obtendrá del promedio del total de formatos de las calificaciones obtenidas en los asuntos de conocimiento exclusivo y en las competencias generales en materia constitucional en acciones de tutela, incidentes de desacato de tutela y habeas corpu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E3E6-8E88-412F-B66A-630FC72413C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2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28" name="CuadroTexto 1"/>
          <p:cNvSpPr/>
          <p:nvPr/>
        </p:nvSpPr>
        <p:spPr>
          <a:xfrm>
            <a:off x="1249200" y="268200"/>
            <a:ext cx="38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FUNCIONARIOS ESPECIALIZADOS EN EXTINCIÓN DE DOMINIO Y LAVADO DE ACTIVOS Y FONCOLPUERTOS Y CAJ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30360" y="1557360"/>
          <a:ext cx="3743280" cy="3816360"/>
        </p:xfrm>
        <a:graphic>
          <a:graphicData uri="http://schemas.openxmlformats.org/drawingml/2006/table">
            <a:tbl>
              <a:tblPr/>
              <a:tblGrid>
                <a:gridCol w="2879640"/>
                <a:gridCol w="863640"/>
              </a:tblGrid>
              <a:tr h="8254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irección de la actuación y control de términos</a:t>
                      </a: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puntos</a:t>
                      </a: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53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Control de la ejecución de las penas y de los subrogados penales, si no hubo actividad probatoria, pertinencia de las pruebas decretadas y conduc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Ejecución de los actos relacionados con el sistema penitenciario y carcelario y manejo de las visitas y diligenci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3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4408-B62F-4ACA-8554-58CF9BD1F35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3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34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Z DE EJECUCIÓN DE PENAS Y MEDIDAS DE SEGURIDAD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403880" y="1558800"/>
          <a:ext cx="4003560" cy="4651560"/>
        </p:xfrm>
        <a:graphic>
          <a:graphicData uri="http://schemas.openxmlformats.org/drawingml/2006/table">
            <a:tbl>
              <a:tblPr/>
              <a:tblGrid>
                <a:gridCol w="3139920"/>
                <a:gridCol w="8636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-Análisis de la decisión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 punt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70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Este aspecto se calificará considerando la relevancia que cada uno de estos aspectos corresponda, según la naturaleza del proceso y la situación planteada en el mism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54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214720" y="5732640"/>
          <a:ext cx="1771560" cy="504720"/>
        </p:xfrm>
        <a:graphic>
          <a:graphicData uri="http://schemas.openxmlformats.org/drawingml/2006/table">
            <a:tbl>
              <a:tblPr/>
              <a:tblGrid>
                <a:gridCol w="177156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PU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cxnSp>
        <p:nvCxnSpPr>
          <p:cNvPr id="137" name="Conector angular 4"/>
          <p:cNvCxnSpPr/>
          <p:nvPr/>
        </p:nvCxnSpPr>
        <p:spPr>
          <a:xfrm flipV="1" rot="10800000">
            <a:off x="3099600" y="5372640"/>
            <a:ext cx="1058040" cy="35964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Conector angular 9"/>
          <p:cNvCxnSpPr/>
          <p:nvPr/>
        </p:nvCxnSpPr>
        <p:spPr>
          <a:xfrm rot="10800000">
            <a:off x="3956760" y="5949360"/>
            <a:ext cx="731160" cy="262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50800" y="1424160"/>
          <a:ext cx="3630600" cy="4906800"/>
        </p:xfrm>
        <a:graphic>
          <a:graphicData uri="http://schemas.openxmlformats.org/drawingml/2006/table">
            <a:tbl>
              <a:tblPr/>
              <a:tblGrid>
                <a:gridCol w="2884680"/>
                <a:gridCol w="745920"/>
              </a:tblGrid>
              <a:tr h="525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uración de la Actuación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2 PUNT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384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</a:t>
                      </a: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y prevención de posibles vicios de nulidad en al ejecución del fallo, adopción de medidas de saneamiento y renovación de actuaciones declaradas nulas con ocasión a la providencia que dio lugar a la ejecución o por cusas anteriores a la misma. Si para ello hubo actuación probatoria, también se examinará la pertinencia de las pruebas decretadas y conducción probatoria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Control y/o rechazo de prácticas dilatorias y garantía del cumplimiento de los principios que informan el respectivo procedimient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Ejecución efectiva del fall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4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5760-05C2-4DFD-82B2-80DAC235A08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4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44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CES DE EJECUCIÓN DE SENTENCIAS EN CIVIL Y FAMILIA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30720" y="1413000"/>
          <a:ext cx="3886200" cy="4811760"/>
        </p:xfrm>
        <a:graphic>
          <a:graphicData uri="http://schemas.openxmlformats.org/drawingml/2006/table">
            <a:tbl>
              <a:tblPr/>
              <a:tblGrid>
                <a:gridCol w="3093840"/>
                <a:gridCol w="792360"/>
              </a:tblGrid>
              <a:tr h="4064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- Análisis de la decisión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 PUNT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0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 Este aspecto se calificará considerando la relevancia que cada uno de estos aspectos corresponda, según la naturaleza del proceso y la situación planteada en el mism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Estructura de la decis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583080" y="6237360"/>
          <a:ext cx="1663560" cy="484200"/>
        </p:xfrm>
        <a:graphic>
          <a:graphicData uri="http://schemas.openxmlformats.org/drawingml/2006/table">
            <a:tbl>
              <a:tblPr/>
              <a:tblGrid>
                <a:gridCol w="1663560"/>
              </a:tblGrid>
              <a:tr h="484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PU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cxnSp>
        <p:nvCxnSpPr>
          <p:cNvPr id="147" name="Conector angular 2"/>
          <p:cNvCxnSpPr/>
          <p:nvPr/>
        </p:nvCxnSpPr>
        <p:spPr>
          <a:xfrm>
            <a:off x="2287080" y="6356160"/>
            <a:ext cx="1296360" cy="1242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Conector angular 4"/>
          <p:cNvCxnSpPr/>
          <p:nvPr/>
        </p:nvCxnSpPr>
        <p:spPr>
          <a:xfrm flipV="1" rot="10800000">
            <a:off x="5245920" y="6237000"/>
            <a:ext cx="1024560" cy="243360"/>
          </a:xfrm>
          <a:prstGeom prst="bentConnector3">
            <a:avLst>
              <a:gd name="adj1" fmla="val 4998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B7BA-0E49-48E9-9905-73411A56934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51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53" name="CuadroTexto 1"/>
          <p:cNvSpPr/>
          <p:nvPr/>
        </p:nvSpPr>
        <p:spPr>
          <a:xfrm>
            <a:off x="1249200" y="247680"/>
            <a:ext cx="391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CES Y MAGISTRADOS ESPECIALIZADOS EN RESTITUCIÓN DE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0360" y="1658880"/>
          <a:ext cx="7488000" cy="1463760"/>
        </p:xfrm>
        <a:graphic>
          <a:graphicData uri="http://schemas.openxmlformats.org/drawingml/2006/table">
            <a:tbl>
              <a:tblPr/>
              <a:tblGrid>
                <a:gridCol w="748800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</a:t>
                      </a: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Jueces y Magistrados especializados en restitución de tierras, la calificación se dará con base al procedimiento establecido para la calificación de jueces civiles y magistrados de la sala civil de los tribunales superiores en cuanto al área civil y constitucionales, respecto a acciones de tutela y habeas corpu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30360" y="3138480"/>
          <a:ext cx="7488000" cy="3108240"/>
        </p:xfrm>
        <a:graphic>
          <a:graphicData uri="http://schemas.openxmlformats.org/drawingml/2006/table">
            <a:tbl>
              <a:tblPr/>
              <a:tblGrid>
                <a:gridCol w="7488000"/>
              </a:tblGrid>
              <a:tr h="3109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ara los funcionarios que tengan a cargo procesos de las comunidades negras, afrocolombianas, palenqueras, raizales, procesos de restitución de derechos de comunidades indígenas, procesos de restitución y formalización de territorios despojados o abandonados, procesos de restitución de derechos territoriales del pueblo room o gitano y los demás que se asignen con base en la Ley 1448 de 2011, el superior funcional solicitara la relación de procesos a cargo del funcionario evaluado con el fin de seleccionar al azar un mínimo de 5 providencias o actuaciones, en caso de no contar con el mínimo requerido la calificación se realizara con los que hubiere. Los subfactores y puntajes de evaluación corresponderán a los señalados en los artículos 30 y s.s. de este Acuerdo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49360" y="1599840"/>
            <a:ext cx="762768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Se efectuará por el superior funcional, sobre sentencias y/o autos que pongan fin al proceso y 2 autos interlocutorios que no le pongan fin al proceso, simultáneamente con la decisión del recurso o grado jurisdiccional de consul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Cuando el superior funcional sea colegiado, se efectuará por la sala plena de la respectiva corporación, la calificación se realizará por iniciativa de la sala, sección especializada o subsección, si la hubiere, para lo que el ponente simultáneamente con la elaboración del proyecto de decisión diligenciara el formulari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Calibri"/>
              </a:rPr>
              <a:t>Las calificaciones aprobadas por las salas, secciones o subsecciones serán sometidas a la aprobación de la sala plena al menos cada 2 mes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A884-DD2C-49C0-BF00-FDE8ED580A4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3 Imagen" descr="logo csj 2009.jpg"/>
          <p:cNvPicPr/>
          <p:nvPr/>
        </p:nvPicPr>
        <p:blipFill>
          <a:blip r:embed="rId1"/>
          <a:stretch/>
        </p:blipFill>
        <p:spPr>
          <a:xfrm>
            <a:off x="841320" y="4176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159" name="2 Subtítulo"/>
          <p:cNvSpPr/>
          <p:nvPr/>
        </p:nvSpPr>
        <p:spPr>
          <a:xfrm>
            <a:off x="5383080" y="72720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6 Imagen" descr="palo ejrlb.png"/>
          <p:cNvPicPr/>
          <p:nvPr/>
        </p:nvPicPr>
        <p:blipFill>
          <a:blip r:embed="rId2"/>
          <a:stretch/>
        </p:blipFill>
        <p:spPr>
          <a:xfrm>
            <a:off x="3873600" y="115740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161" name="CuadroTexto 1"/>
          <p:cNvSpPr/>
          <p:nvPr/>
        </p:nvSpPr>
        <p:spPr>
          <a:xfrm>
            <a:off x="1539720" y="27936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CES ADMINISTRA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1599840"/>
            <a:ext cx="77011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Comprenderá un mínimo de 12 providencias durante todo el período, así: 2 autos interlocutorios que no le pongan fin al proceso y 4 providencias entre sentencias y autos interlocutorios que le ponen fin al proceso, por cada semestre; equivalentes a cuatro de la especialidad y una de tutel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Para los magistrados el mínimo de providencias a evaluar será de 24, teniendo en cuenta el mínimo de providencias semestrales y el procedimiento señalado anteriorment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En caso de no contar con sistema de Gestión Siglo XXI, el funcionario remitirá un listado de procesos terminados donde al azar se seleccionará los procesos objeto de calificació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100" spc="-1" strike="noStrike">
                <a:solidFill>
                  <a:srgbClr val="000000"/>
                </a:solidFill>
                <a:latin typeface="Calibri"/>
              </a:rPr>
              <a:t>Si no se completa el mínimo requerido se calificara con los que hubier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855A-8660-4E1E-A322-9C8E64BC99C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3 Imagen" descr="logo csj 2009.jpg"/>
          <p:cNvPicPr/>
          <p:nvPr/>
        </p:nvPicPr>
        <p:blipFill>
          <a:blip r:embed="rId1"/>
          <a:stretch/>
        </p:blipFill>
        <p:spPr>
          <a:xfrm>
            <a:off x="841320" y="4176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165" name="2 Subtítulo"/>
          <p:cNvSpPr/>
          <p:nvPr/>
        </p:nvSpPr>
        <p:spPr>
          <a:xfrm>
            <a:off x="5383080" y="72720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6 Imagen" descr="palo ejrlb.png"/>
          <p:cNvPicPr/>
          <p:nvPr/>
        </p:nvPicPr>
        <p:blipFill>
          <a:blip r:embed="rId2"/>
          <a:stretch/>
        </p:blipFill>
        <p:spPr>
          <a:xfrm>
            <a:off x="3873600" y="1157400"/>
            <a:ext cx="2151000" cy="1029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1"/>
          <p:cNvSpPr/>
          <p:nvPr/>
        </p:nvSpPr>
        <p:spPr>
          <a:xfrm>
            <a:off x="1539720" y="27936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ECES ADMINISTRA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6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1" name="CuadroTexto 1"/>
          <p:cNvSpPr/>
          <p:nvPr/>
        </p:nvSpPr>
        <p:spPr>
          <a:xfrm>
            <a:off x="1249200" y="247680"/>
            <a:ext cx="3910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DIRECCIÓN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HASTA 22 PUNTOS</a:t>
            </a:r>
            <a:r>
              <a:rPr b="1" lang="es-MX" sz="20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F19-74BB-4565-B14F-7D01F6E2210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66640" y="1557360"/>
          <a:ext cx="7696440" cy="4759200"/>
        </p:xfrm>
        <a:graphic>
          <a:graphicData uri="http://schemas.openxmlformats.org/drawingml/2006/table">
            <a:tbl>
              <a:tblPr/>
              <a:tblGrid>
                <a:gridCol w="3816360"/>
                <a:gridCol w="790560"/>
                <a:gridCol w="792360"/>
                <a:gridCol w="720720"/>
                <a:gridCol w="863640"/>
                <a:gridCol w="712800"/>
              </a:tblGrid>
              <a:tr h="880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ubfactor comprende las siguientes variables y puntaj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AS O SIN AUDIENCIA O DILIG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LANO O SIN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URO DERECHO O SIN DECRETO DE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1314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Dirección temprana, medidas de saneamiento, conducción de la conciliación, planes en eventos pertinentes, fijación del litigio, control y/o rechazo de practicas dilatorias, garantía del cumplimiento de los princip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09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Pertinencia de pruebas decretadas, inadmisibilidad, rechazo, control de pruebas, prohibidas, ineficaces, impertinentes o superfluas y conduc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05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Manejo de audiencias y diligencias y control de duración, administración del tiempo y de intervenciones, suspensión y aplazamien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75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77" name="CuadroTexto 1"/>
          <p:cNvSpPr/>
          <p:nvPr/>
        </p:nvSpPr>
        <p:spPr>
          <a:xfrm>
            <a:off x="1249200" y="247680"/>
            <a:ext cx="3910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ANÁLISI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HASTA 20 PUNTOS</a:t>
            </a:r>
            <a:r>
              <a:rPr b="1" lang="es-MX" sz="20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581C-5E33-4DF9-9D93-53F9D4BCD37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66640" y="1557360"/>
          <a:ext cx="7624800" cy="4906800"/>
        </p:xfrm>
        <a:graphic>
          <a:graphicData uri="http://schemas.openxmlformats.org/drawingml/2006/table">
            <a:tbl>
              <a:tblPr/>
              <a:tblGrid>
                <a:gridCol w="3780000"/>
                <a:gridCol w="785880"/>
                <a:gridCol w="784080"/>
                <a:gridCol w="712800"/>
                <a:gridCol w="770040"/>
                <a:gridCol w="7920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ubfactor comprende las siguientes variables y puntaj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AS O SIN AUDIENCIA O DILIG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LANO O SIN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URO DERECHO O SIN DECRETO DE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1796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50440" y="20019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Consiste en el análisis técnico y jurídico de la decisión y el respeto y efectividad del derecho al debido proce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efectúa por el superior funcional del servidor judicial, sobre sentencias y/o autos que pongan fin al proceso y 2 autos interlocutorios que no le pongan fin al proceso, simultáneamente con la decisión del recurso o grado jurisdiccional de consul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i el superior funcional es colegiado, se efectuara por la Sala Plena de la respectiva corporación. (Art.28 A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4483-797F-4F58-8A35-24B238DC0F1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5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33280" y="244080"/>
            <a:ext cx="410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r>
              <a:rPr b="1" lang="es-ES" sz="1800" spc="-1" strike="noStrike">
                <a:solidFill>
                  <a:srgbClr val="ffc000"/>
                </a:solidFill>
                <a:latin typeface="Calibri"/>
                <a:ea typeface="MS PGothic"/>
              </a:rPr>
              <a:t>–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 SISTEMAS OR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361A-7C93-4620-8108-A15F3946137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ángulo 4"/>
          <p:cNvSpPr/>
          <p:nvPr/>
        </p:nvSpPr>
        <p:spPr>
          <a:xfrm>
            <a:off x="774720" y="2492280"/>
            <a:ext cx="7199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CAL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Calibri"/>
                <a:ea typeface="MS PGothic"/>
              </a:rPr>
              <a:t>FUNCIONARIOS EN CARGOS DE DESCON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83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050D-143E-4793-8FB4-2C252E763E5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3 Imagen" descr="logo csj 2009.jpg"/>
          <p:cNvPicPr/>
          <p:nvPr/>
        </p:nvPicPr>
        <p:blipFill>
          <a:blip r:embed="rId1"/>
          <a:stretch/>
        </p:blipFill>
        <p:spPr>
          <a:xfrm>
            <a:off x="557280" y="3492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187" name="2 Subtítulo"/>
          <p:cNvSpPr/>
          <p:nvPr/>
        </p:nvSpPr>
        <p:spPr>
          <a:xfrm>
            <a:off x="5192640" y="74124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6 Imagen" descr="palo ejrlb.png"/>
          <p:cNvPicPr/>
          <p:nvPr/>
        </p:nvPicPr>
        <p:blipFill>
          <a:blip r:embed="rId2"/>
          <a:stretch/>
        </p:blipFill>
        <p:spPr>
          <a:xfrm>
            <a:off x="3683160" y="117144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89" name="CuadroTexto 1"/>
          <p:cNvSpPr/>
          <p:nvPr/>
        </p:nvSpPr>
        <p:spPr>
          <a:xfrm>
            <a:off x="1419120" y="295200"/>
            <a:ext cx="425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FUNCIONARIOS DEL RÉGIMEN DE CARRERA EN CARGOS DE DESCONGESTIÓN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30360" y="1557360"/>
          <a:ext cx="7488000" cy="4602240"/>
        </p:xfrm>
        <a:graphic>
          <a:graphicData uri="http://schemas.openxmlformats.org/drawingml/2006/table">
            <a:tbl>
              <a:tblPr/>
              <a:tblGrid>
                <a:gridCol w="4608360"/>
                <a:gridCol w="1224000"/>
                <a:gridCol w="1008000"/>
                <a:gridCol w="647640"/>
              </a:tblGrid>
              <a:tr h="5493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LOS FUNCIONARIOS QUE SE DESEMPEÑAN TRANSITORIAMENTE EN PROGRAMAS DE DESCONGESTIÓN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ción del proceso. (Hasta 22 puntos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SUSTAN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 AUDIENCIAS o DILIG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FA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Dirección temprana, adopción de medidas de saneamiento, manejo de la conciliación, elaboración de planes en eventos pertinentes y control y/o rechazo de prácticas dilatori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776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 Pertinencia de las pruebas decretadas, control de pruebas prohibidas ineficaces, impertinentes o superfluas y conducción probatori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7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) Manejo de audiencias y diligencias y control de su duración, administración del tiempo y de las intervenciones, suspensión y aplazamient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b3a2c7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646360" y="1738080"/>
            <a:ext cx="2232000" cy="2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1A96-EA7C-4FDD-8777-834A849D971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3 Imagen" descr="logo csj 2009.jpg"/>
          <p:cNvPicPr/>
          <p:nvPr/>
        </p:nvPicPr>
        <p:blipFill>
          <a:blip r:embed="rId1"/>
          <a:stretch/>
        </p:blipFill>
        <p:spPr>
          <a:xfrm>
            <a:off x="557280" y="3492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194" name="2 Subtítulo"/>
          <p:cNvSpPr/>
          <p:nvPr/>
        </p:nvSpPr>
        <p:spPr>
          <a:xfrm>
            <a:off x="5192640" y="74124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6 Imagen" descr="palo ejrlb.png"/>
          <p:cNvPicPr/>
          <p:nvPr/>
        </p:nvPicPr>
        <p:blipFill>
          <a:blip r:embed="rId2"/>
          <a:stretch/>
        </p:blipFill>
        <p:spPr>
          <a:xfrm>
            <a:off x="3683160" y="117144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96" name="CuadroTexto 1"/>
          <p:cNvSpPr/>
          <p:nvPr/>
        </p:nvSpPr>
        <p:spPr>
          <a:xfrm>
            <a:off x="1419120" y="295200"/>
            <a:ext cx="425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FUNCIONARIOS DEL RÉGIMEN DE CARRERA EN CARGOS DE DESCONGESTIÓN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69880" y="1557360"/>
          <a:ext cx="7561440" cy="4476600"/>
        </p:xfrm>
        <a:graphic>
          <a:graphicData uri="http://schemas.openxmlformats.org/drawingml/2006/table">
            <a:tbl>
              <a:tblPr/>
              <a:tblGrid>
                <a:gridCol w="4595760"/>
                <a:gridCol w="1238400"/>
                <a:gridCol w="1079280"/>
                <a:gridCol w="64800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Análisis de la Decisión. (hasta 20 punto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SUSTAN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 AUDIENCIAS o DILIG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FA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) Identificación del problema jurídico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49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) Argumentación normativa y jurisprudencial, doctrina o bloque de constitucionalidad, aplicación de normas estándares internacionales de DH vigentes, principio de igualdad y no discriminación por género y enfoque de Derechos Human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) Argumentación y valoración probatori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) Estructura de la decis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 gridSpan="4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 sustanciación y fallo, aplica el procedimiento General - </a:t>
                      </a:r>
                      <a:r>
                        <a:rPr b="0" lang="es-CO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Diapositiva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F2AD-6F8C-407F-832B-67128F61EFB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3 Imagen" descr="logo csj 2009.jpg"/>
          <p:cNvPicPr/>
          <p:nvPr/>
        </p:nvPicPr>
        <p:blipFill>
          <a:blip r:embed="rId1"/>
          <a:stretch/>
        </p:blipFill>
        <p:spPr>
          <a:xfrm>
            <a:off x="557280" y="349200"/>
            <a:ext cx="698400" cy="925560"/>
          </a:xfrm>
          <a:prstGeom prst="rect">
            <a:avLst/>
          </a:prstGeom>
          <a:ln w="0">
            <a:noFill/>
          </a:ln>
        </p:spPr>
      </p:pic>
      <p:sp>
        <p:nvSpPr>
          <p:cNvPr id="200" name="2 Subtítulo"/>
          <p:cNvSpPr/>
          <p:nvPr/>
        </p:nvSpPr>
        <p:spPr>
          <a:xfrm>
            <a:off x="5192640" y="74124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6 Imagen" descr="palo ejrlb.png"/>
          <p:cNvPicPr/>
          <p:nvPr/>
        </p:nvPicPr>
        <p:blipFill>
          <a:blip r:embed="rId2"/>
          <a:stretch/>
        </p:blipFill>
        <p:spPr>
          <a:xfrm>
            <a:off x="3683160" y="117144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202" name="CuadroTexto 1"/>
          <p:cNvSpPr/>
          <p:nvPr/>
        </p:nvSpPr>
        <p:spPr>
          <a:xfrm>
            <a:off x="1419120" y="295200"/>
            <a:ext cx="425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NORMAS TRANSITORIAS DESPACHOS QUE NO HAN INGRESADO AL SISTEMA ORAL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30360" y="1589040"/>
          <a:ext cx="7494480" cy="2401920"/>
        </p:xfrm>
        <a:graphic>
          <a:graphicData uri="http://schemas.openxmlformats.org/drawingml/2006/table">
            <a:tbl>
              <a:tblPr/>
              <a:tblGrid>
                <a:gridCol w="7494480"/>
              </a:tblGrid>
              <a:tr h="30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IRECCION DEL PROCESO HASTA 22 PU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1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Dirección temprana, adopción de medidas de saneamiento, elaboración de planes del caso en los eventos en que resulte pertinente y control y/o rechazo de prácticas dilatorias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Pertinencia de las pruebas decretadas, control de pruebas prohibidas, ineficaces, impertinentes o superfluas y conducción probatoria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Manejo de audiencias y diligencias y control de su duración administración del tiempo y de las intervenciones, suspensión y aplazamiento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Seguimiento de las medidas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19200" y="4005360"/>
          <a:ext cx="7488000" cy="2360520"/>
        </p:xfrm>
        <a:graphic>
          <a:graphicData uri="http://schemas.openxmlformats.org/drawingml/2006/table">
            <a:tbl>
              <a:tblPr/>
              <a:tblGrid>
                <a:gridCol w="74880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NÁLISIS DE LA DECISIÓN HASTA 20 PU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Identificación del problema jurídico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rgumentación normativa y jurisprudencial, doctrina o bloque de constitucionalidad, aplicación de normas y estándares internacionales de DH vigentes para Colombia, cuando sea el cado aplicación del principio de igualdad y no discriminación por razón de genero y enfoque diferencial de DH.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rgumentación y valoración probatoria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 PU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structura de la decisión hasta </a:t>
                      </a: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 PUNT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60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49280" y="243000"/>
            <a:ext cx="410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r>
              <a:rPr b="1" lang="es-ES" sz="1800" spc="-1" strike="noStrike">
                <a:solidFill>
                  <a:srgbClr val="ffc000"/>
                </a:solidFill>
                <a:latin typeface="Calibri"/>
                <a:ea typeface="MS PGothic"/>
              </a:rPr>
              <a:t>–</a:t>
            </a: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 SISTEMA ORAL PROCESOS A EVAL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0440" y="1628280"/>
            <a:ext cx="77835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6067-6214-4C65-8562-20537AF3426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0360" y="1773360"/>
          <a:ext cx="3743280" cy="50328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503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PROVIDENCI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892080" y="2852640"/>
          <a:ext cx="2833920" cy="2855880"/>
        </p:xfrm>
        <a:graphic>
          <a:graphicData uri="http://schemas.openxmlformats.org/drawingml/2006/table">
            <a:tbl>
              <a:tblPr/>
              <a:tblGrid>
                <a:gridCol w="2833920"/>
              </a:tblGrid>
              <a:tr h="69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MER SE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95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utos interlocutorios que no pongan fin al 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videncias de la especialidad entr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te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locutori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 tut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659480" y="2852640"/>
          <a:ext cx="2935080" cy="2903760"/>
        </p:xfrm>
        <a:graphic>
          <a:graphicData uri="http://schemas.openxmlformats.org/drawingml/2006/table">
            <a:tbl>
              <a:tblPr/>
              <a:tblGrid>
                <a:gridCol w="29350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GUNDO SEMEST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utos interlocutorios que no pongan fin al 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providencias de la especialidad entr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te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locutori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 tut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6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71" name="CuadroTexto 1"/>
          <p:cNvSpPr/>
          <p:nvPr/>
        </p:nvSpPr>
        <p:spPr>
          <a:xfrm>
            <a:off x="1249200" y="247680"/>
            <a:ext cx="3910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DIRECCIÓN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HASTA 22 PUNTOS</a:t>
            </a:r>
            <a:r>
              <a:rPr b="1" lang="es-MX" sz="20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D9FC-691A-4200-B962-F0BD579B938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66640" y="1557360"/>
          <a:ext cx="7696440" cy="4759200"/>
        </p:xfrm>
        <a:graphic>
          <a:graphicData uri="http://schemas.openxmlformats.org/drawingml/2006/table">
            <a:tbl>
              <a:tblPr/>
              <a:tblGrid>
                <a:gridCol w="3816360"/>
                <a:gridCol w="790560"/>
                <a:gridCol w="792360"/>
                <a:gridCol w="720720"/>
                <a:gridCol w="863640"/>
                <a:gridCol w="712800"/>
              </a:tblGrid>
              <a:tr h="880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ubfactor comprende las siguientes variables y puntaj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AS O SIN AUDIENCIA O DILIG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LANO O SIN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URO DERECHO O SIN DECRETO DE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3147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Dirección temprana, medidas de saneamiento, conducción de la conciliación, planes en eventos pertinentes, fijación del litigio, control y/o rechazo de practicas dilatorias, garantía del cumplimiento de los princip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095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Pertinencia de pruebas decretadas, inadmisibilidad, rechazo, control de pruebas prohibidas, ineficaces, impertinentes o superfluas y conducción probato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05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Manejo de audiencias y diligencias y control de duración, administración del tiempo y de intervenciones, suspensión y aplazamien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75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77" name="CuadroTexto 1"/>
          <p:cNvSpPr/>
          <p:nvPr/>
        </p:nvSpPr>
        <p:spPr>
          <a:xfrm>
            <a:off x="1249200" y="247680"/>
            <a:ext cx="3910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ANÁLISI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alibri"/>
                <a:ea typeface="MS PGothic"/>
              </a:rPr>
              <a:t>HASTA 20 PUNTOS</a:t>
            </a:r>
            <a:r>
              <a:rPr b="1" lang="es-MX" sz="2000" spc="-1" strike="noStrike">
                <a:solidFill>
                  <a:srgbClr val="ffc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 Marcador de número de diapositiva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4D06-65D0-4B72-88BC-FB3E1D9A129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66640" y="1557360"/>
          <a:ext cx="7624800" cy="4954680"/>
        </p:xfrm>
        <a:graphic>
          <a:graphicData uri="http://schemas.openxmlformats.org/drawingml/2006/table">
            <a:tbl>
              <a:tblPr/>
              <a:tblGrid>
                <a:gridCol w="3780000"/>
                <a:gridCol w="785880"/>
                <a:gridCol w="784080"/>
                <a:gridCol w="712800"/>
                <a:gridCol w="770040"/>
                <a:gridCol w="79200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ubfactor comprende las siguientes variables y puntaj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ELAS O SIN AUDIENCIA O DILIG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LANO O SIN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PURO DERECHO O SIN DECRETO DE PRU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Argumentación normativa y jurisprudencial, doctrinaria o bloque de constitucionalidad, aplicación de normas y estándares internacionales de Derechos Humanos vigentes para Colombia, cuando sea el caso y aplicación del principio de igualdad y no discriminación por razón del género y del enfoque diferencial de derechos human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0038-3DEA-4C4B-AF1A-F6A4420343A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82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84" name="CuadroTexto 1"/>
          <p:cNvSpPr/>
          <p:nvPr/>
        </p:nvSpPr>
        <p:spPr>
          <a:xfrm>
            <a:off x="1249200" y="304920"/>
            <a:ext cx="39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1599840"/>
            <a:ext cx="7508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Calibri"/>
                <a:ea typeface="MS PGothic"/>
              </a:rPr>
              <a:t>FACTOR CALIDA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Calibri"/>
                <a:ea typeface="MS PGothic"/>
              </a:rPr>
              <a:t>REGÍMENES ESPE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630360" y="1700280"/>
          <a:ext cx="7488000" cy="1868400"/>
        </p:xfrm>
        <a:graphic>
          <a:graphicData uri="http://schemas.openxmlformats.org/drawingml/2006/table">
            <a:tbl>
              <a:tblPr/>
              <a:tblGrid>
                <a:gridCol w="6408720"/>
                <a:gridCol w="1079280"/>
              </a:tblGrid>
              <a:tr h="5490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IRECCIÓN DE LA AUDIENCIA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ASTA 22 PUNT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analizan las siguientes variables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345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 Manejo de audiencia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Control y/o rechazo de prácticas dilatoria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Control de su duración y suspens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DEL SUB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87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90F5-EED2-4FE6-9EBD-A35680DAFE5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89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91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ZGADOS CON FUNCIÓN DE CONTROL DE GARANTÍAS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30360" y="3573360"/>
          <a:ext cx="7488000" cy="2982960"/>
        </p:xfrm>
        <a:graphic>
          <a:graphicData uri="http://schemas.openxmlformats.org/drawingml/2006/table">
            <a:tbl>
              <a:tblPr/>
              <a:tblGrid>
                <a:gridCol w="6408720"/>
                <a:gridCol w="1079280"/>
              </a:tblGrid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- ANÁLISIS DE LA DECISIÓN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ASTA 20 PUNT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59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</a:t>
                      </a: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umentación normativa y jurisprudencial, doctrinaria o bloque de constitucionalidad, aplicación de normas estándares internacionales de DH vigentes para Colombia, cuando sea el caso y aplicación del principio de igualdad y no discriminación por razón del género y del enfoque diferencial de Derechos Humanos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 Argumentación y valoración probatori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AJE TOTAL DEL SUB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UNTAJE ASIGNA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30360" y="1581120"/>
          <a:ext cx="3527280" cy="3989520"/>
        </p:xfrm>
        <a:graphic>
          <a:graphicData uri="http://schemas.openxmlformats.org/drawingml/2006/table">
            <a:tbl>
              <a:tblPr/>
              <a:tblGrid>
                <a:gridCol w="2952720"/>
                <a:gridCol w="574560"/>
              </a:tblGrid>
              <a:tr h="37620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- Dirección del juicio (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PUNTOS</a:t>
                      </a: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4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Dirección temprana, adopción de medidas de saneamiento, elaboración de planes del caso, conducción del juicio oral y garantía de principios, control de preacuerdos, aseguramiento de la comprensión del acusado y control y/o rechazo de practicas dilatori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Pertinencia de las pruebas decretadas, inadmisibilidad, rechazo y exclusión de pruebas y conducción probator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Manejo de audiencias y diligencias y control de duración, administración del tiempo y de las intervenciones, suspensión y aplazamient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4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0292-93D7-46B0-A2BE-579B6EF966B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96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98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ZGADOS CON FUNCIÓN DE CONOCIMIENTO HASTA 42 P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302000" y="1589040"/>
          <a:ext cx="3673440" cy="4130640"/>
        </p:xfrm>
        <a:graphic>
          <a:graphicData uri="http://schemas.openxmlformats.org/drawingml/2006/table">
            <a:tbl>
              <a:tblPr/>
              <a:tblGrid>
                <a:gridCol w="3119400"/>
                <a:gridCol w="554040"/>
              </a:tblGrid>
              <a:tr h="320760">
                <a:tc gridSpan="2"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Análisis de la decisión.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0 PUNT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- Identificación del problema jurídic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21034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- Argumentación normativa y jurisprudencial, doctrinaria o bloque de constitucionalidad, aplicación de normas y estándares internacionales de Derechos Humanos vigentes, aplicación del principio de igualdad y nos discriminación por razón de género y enfoque diferencial de derechos humanos. Este aspecto se calificará considerando la relevancia que cada uno de aspectos corresponda, según la naturaleza del proceso y la situación planteada en el mism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71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- Argumentación y valoración probator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- Estructura de la decis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B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00" name="Rectángulo 1"/>
          <p:cNvSpPr/>
          <p:nvPr/>
        </p:nvSpPr>
        <p:spPr>
          <a:xfrm>
            <a:off x="3583080" y="5805360"/>
            <a:ext cx="1509480" cy="5511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0-42 pu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ector angular 3"/>
          <p:cNvCxnSpPr/>
          <p:nvPr/>
        </p:nvCxnSpPr>
        <p:spPr>
          <a:xfrm flipV="1" rot="10800000">
            <a:off x="5091840" y="5727240"/>
            <a:ext cx="939240" cy="2772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Conector angular 5"/>
          <p:cNvCxnSpPr/>
          <p:nvPr/>
        </p:nvCxnSpPr>
        <p:spPr>
          <a:xfrm>
            <a:off x="2495160" y="5570280"/>
            <a:ext cx="1080360" cy="36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número de diapositiva 3"/>
          <p:cNvSpPr/>
          <p:nvPr/>
        </p:nvSpPr>
        <p:spPr>
          <a:xfrm>
            <a:off x="6270480" y="6356520"/>
            <a:ext cx="204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95D3-BC03-4FDB-9BCB-271838686C5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3 Imagen" descr="logo csj 2009.jpg"/>
          <p:cNvPicPr/>
          <p:nvPr/>
        </p:nvPicPr>
        <p:blipFill>
          <a:blip r:embed="rId1"/>
          <a:stretch/>
        </p:blipFill>
        <p:spPr>
          <a:xfrm>
            <a:off x="550800" y="385920"/>
            <a:ext cx="698400" cy="925200"/>
          </a:xfrm>
          <a:prstGeom prst="rect">
            <a:avLst/>
          </a:prstGeom>
          <a:ln w="0">
            <a:noFill/>
          </a:ln>
        </p:spPr>
      </p:pic>
      <p:sp>
        <p:nvSpPr>
          <p:cNvPr id="105" name="2 Subtítulo"/>
          <p:cNvSpPr/>
          <p:nvPr/>
        </p:nvSpPr>
        <p:spPr>
          <a:xfrm>
            <a:off x="5092560" y="695160"/>
            <a:ext cx="2803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600" spc="-1" strike="noStrike">
                <a:solidFill>
                  <a:srgbClr val="ffffff"/>
                </a:solidFill>
                <a:latin typeface="Palatino Linotype"/>
              </a:rPr>
              <a:t>Unidad de Administración de la Carrera Judi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6 Imagen" descr="palo ejrlb.png"/>
          <p:cNvPicPr/>
          <p:nvPr/>
        </p:nvPicPr>
        <p:blipFill>
          <a:blip r:embed="rId2"/>
          <a:stretch/>
        </p:blipFill>
        <p:spPr>
          <a:xfrm>
            <a:off x="3583080" y="1125360"/>
            <a:ext cx="2151000" cy="1033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1"/>
          <p:cNvSpPr/>
          <p:nvPr/>
        </p:nvSpPr>
        <p:spPr>
          <a:xfrm>
            <a:off x="1249200" y="304920"/>
            <a:ext cx="39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Calibri"/>
                <a:ea typeface="MS PGothic"/>
              </a:rPr>
              <a:t>FACTOR CALIDAD JUZGADOS PROMISCUOS MUNICIPALES Y CON COMPETENCIA MIX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30360" y="1641600"/>
            <a:ext cx="74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39720" y="1641600"/>
          <a:ext cx="7345440" cy="10792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079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</a:t>
                      </a: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eces Promiscuos Municipales</a:t>
                      </a: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Se pondera los indicadores fijados para cada uno de los procedimientos de su compet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44400" y="2781360"/>
          <a:ext cx="7344000" cy="3478320"/>
        </p:xfrm>
        <a:graphic>
          <a:graphicData uri="http://schemas.openxmlformats.org/drawingml/2006/table">
            <a:tbl>
              <a:tblPr/>
              <a:tblGrid>
                <a:gridCol w="7344000"/>
              </a:tblGrid>
              <a:tr h="2014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rios con competencia mixta:  </a:t>
                      </a: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nes tramiten procesos de Ley 600/00, con funciones de control de garantías, de conocimiento o como coordinadores, se ponderarán los indicadores que para cada una de dichas actividades resulten al aplicar los procedimientos aquí establecidos. De igual forma a los que se desempeñen con funciones de control de garantías y conocimie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En el ejercicio de las competencia de Ley 906/04 en control de garantías y/o conocimiento, así como en Ley 600/00, que se hayan asumido en fecha diferente durante el período, la calificación se ponderará de conformidad con los días hábiles laborados en estas competencias a efectos de obtener la calificación to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21:22Z</dcterms:created>
  <dc:creator>CARMEN</dc:creator>
  <dc:description/>
  <dc:language>en-US</dc:language>
  <cp:lastModifiedBy>Jhon</cp:lastModifiedBy>
  <dcterms:modified xsi:type="dcterms:W3CDTF">2015-07-29T04:01:09Z</dcterms:modified>
  <cp:revision>482</cp:revision>
  <dc:subject/>
  <dc:title>Diapositiva 1</dc:title>
</cp:coreProperties>
</file>