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8748713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F20EF9-731C-442C-8D0D-B4F7A55DEA4B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8CC438-4845-459F-A817-5BA73A5F72A8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0A8-E095-44C2-983F-49CF90B3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F32-3A1C-4590-B147-BF7A4718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CD6-C044-42D6-A34A-46FC9E51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996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180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996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180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892-0A1E-4A24-A6D1-E3F391D4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AC3-2132-4332-B290-DA549D7E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720-7610-4DAF-9ECD-A07D8F63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CF7-E9C9-44D2-9718-1FD56336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B06-897B-4D1A-B240-C36FE04A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274320"/>
            <a:ext cx="78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149-8965-47EB-84FA-44874623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E59-7051-4597-BDDC-0DB24920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177-184A-4431-9B6C-823E315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838-BCA9-4496-8641-D7E5F45F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26A8-7E0C-42A5-8CA8-4C1C61ED7907}" type="datetime">
              <a:rPr b="0" lang="es-CO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9440" y="6356520"/>
            <a:ext cx="276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7012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3579-3347-4449-9BA3-AD051D44CA2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4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09480" y="1916280"/>
            <a:ext cx="7508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0000"/>
                </a:solidFill>
                <a:latin typeface="Calibri"/>
                <a:ea typeface="MS PGothic"/>
              </a:rPr>
              <a:t>FACTOR EFICIENCIA O RENDIMIENT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alibri"/>
                <a:ea typeface="MS PGothic"/>
              </a:rPr>
              <a:t>(DE 0 A 40 PU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3135-15E1-4205-9966-8CCB2497202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50440" y="1549440"/>
            <a:ext cx="75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 proporción entre las audiencias efectivamente atendidas y las programadas correspondan a 100% se asignará 5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el número de audiencias atendidas efectivamente no sea igual a las efectivamente programadas, se aplicará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9313-4B21-4F04-87A0-0ED5E09E610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17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19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ATENCIÓN DE AUDIENCIAS PROGRAMADAS -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ángulo 8"/>
          <p:cNvSpPr/>
          <p:nvPr/>
        </p:nvSpPr>
        <p:spPr>
          <a:xfrm>
            <a:off x="917640" y="3800520"/>
            <a:ext cx="6978600" cy="1008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* 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(Número de audiencias efectivamente atendidas / número de audiencias programadas) X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38120" y="1600200"/>
            <a:ext cx="768024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a obtener la Calificación Final del Factor Eficiencia o Rendimiento, se suman los puntajes obtenidos en los dos Subfactores: Respuesta Efectiva a la Demanda de Justicia y Atención de Audiencias Programad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9F23-08C5-4281-865F-E7CD709FA16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2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26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CALIFICACIÓN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ángulo 8"/>
          <p:cNvSpPr/>
          <p:nvPr/>
        </p:nvSpPr>
        <p:spPr>
          <a:xfrm>
            <a:off x="2717640" y="3141720"/>
            <a:ext cx="2700360" cy="5619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RESPUESTA EFECTIVA A LA DEMANDA DE 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nector recto 10"/>
          <p:cNvSpPr/>
          <p:nvPr/>
        </p:nvSpPr>
        <p:spPr>
          <a:xfrm>
            <a:off x="408636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onector recto 14"/>
          <p:cNvSpPr/>
          <p:nvPr/>
        </p:nvSpPr>
        <p:spPr>
          <a:xfrm>
            <a:off x="3941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ángulo 15"/>
          <p:cNvSpPr/>
          <p:nvPr/>
        </p:nvSpPr>
        <p:spPr>
          <a:xfrm>
            <a:off x="2706840" y="4370400"/>
            <a:ext cx="2711160" cy="6872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ATENCION DE AUDIENCIAS PROGRAM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ector recto 17"/>
          <p:cNvSpPr/>
          <p:nvPr/>
        </p:nvSpPr>
        <p:spPr>
          <a:xfrm>
            <a:off x="2408400" y="5229360"/>
            <a:ext cx="33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ángulo 18"/>
          <p:cNvSpPr/>
          <p:nvPr/>
        </p:nvSpPr>
        <p:spPr>
          <a:xfrm>
            <a:off x="2703600" y="5335560"/>
            <a:ext cx="2711520" cy="6494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500" spc="-1" strike="noStrike">
                <a:solidFill>
                  <a:srgbClr val="000000"/>
                </a:solidFill>
                <a:latin typeface="Calibri"/>
              </a:rPr>
              <a:t>CALIFICACIÓN FACTOR EFICIENCIA O RENDIMI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90040" y="1587600"/>
            <a:ext cx="7704360" cy="4690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4000"/>
          </a:bodyPr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Juzgado 36 Oralidad Laboral del Circuito de Bogot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Carga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627 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Audiencias Programadas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74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Egreso 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455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Audiencias atendidas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6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Conciliaciones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 u="sng">
                <a:solidFill>
                  <a:srgbClr val="000000"/>
                </a:solidFill>
                <a:uFillTx/>
                <a:latin typeface="Calibri"/>
              </a:rPr>
              <a:t>  64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Por causas Ajenas Despacho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  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Total Egresos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519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Total Audiencias Atendidas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          72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CMR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s-CO" sz="1600" spc="-1" strike="noStrike">
                <a:solidFill>
                  <a:srgbClr val="ff0000"/>
                </a:solidFill>
                <a:latin typeface="Calibri"/>
              </a:rPr>
              <a:t>14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Subfactor SREDJ =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(EGRESO/CARGA) * 35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(519/627) * 3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0,8278 * 3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28,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Subfactor SAPyA=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(AEA/AP) * 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(727/741) * 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0,9811 * 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4,9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Calificación Factor Eficiencia o Rendimiento = 28,97 + 4,9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= 33,8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EBCA-10BB-4359-B334-6837F0482FE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3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38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CALIFICACIÓN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50440" y="1600200"/>
            <a:ext cx="74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funcionario que coadyuven, en razón de las medidas de descongestión por redistribución de procesos para sustanciación y/o fallo, obtendrán un puntaje adicional a la Calificación integral de servicios de hasta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4 PUNTOS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s-CO" sz="1600" spc="-1" strike="noStrike">
                <a:solidFill>
                  <a:srgbClr val="000000"/>
                </a:solidFill>
                <a:latin typeface="Calibri"/>
              </a:rPr>
              <a:t>(ART. 4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8CD0-20AC-48DE-B791-550B218D5EA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4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44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PARTICIPACIÓN EN PROGRAMAS DE DESCON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31880" y="3284640"/>
          <a:ext cx="7345440" cy="212256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71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imiento de las metas de descongestión igual o superior al 90%: </a:t>
                      </a: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UN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imiento de las metas de descongestión igual o superior al 80% e inferior al 90%: </a:t>
                      </a: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UN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imiento de las metas de descongestión igual o superior al 70% e inferior al 80%: </a:t>
                      </a: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PU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8CB2-8FB3-4FF0-B221-E6822A62F88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01640" y="1906560"/>
            <a:ext cx="7508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0000"/>
                </a:solidFill>
                <a:latin typeface="Calibri"/>
                <a:ea typeface="MS PGothic"/>
              </a:rPr>
              <a:t>FACTOR EFICIENCIA O RENDIMIENTO REGÍMENES ESPECIAL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alibri"/>
                <a:ea typeface="MS PGothic"/>
              </a:rPr>
              <a:t>(DE 0 A 40 PU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4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911C-7FAC-4DDD-9F82-AA2D0F41327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53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55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Rectángulo 8" descr=""/>
          <p:cNvPicPr/>
          <p:nvPr/>
        </p:nvPicPr>
        <p:blipFill>
          <a:blip r:embed="rId3"/>
          <a:stretch/>
        </p:blipFill>
        <p:spPr>
          <a:xfrm>
            <a:off x="1152360" y="2852640"/>
            <a:ext cx="2786400" cy="1951200"/>
          </a:xfrm>
          <a:prstGeom prst="rect">
            <a:avLst/>
          </a:prstGeom>
          <a:ln w="0">
            <a:noFill/>
          </a:ln>
        </p:spPr>
      </p:pic>
      <p:pic>
        <p:nvPicPr>
          <p:cNvPr id="157" name="Rectángulo 9" descr=""/>
          <p:cNvPicPr/>
          <p:nvPr/>
        </p:nvPicPr>
        <p:blipFill>
          <a:blip r:embed="rId4"/>
          <a:stretch/>
        </p:blipFill>
        <p:spPr>
          <a:xfrm>
            <a:off x="4419720" y="2852640"/>
            <a:ext cx="2859120" cy="1951200"/>
          </a:xfrm>
          <a:prstGeom prst="rect">
            <a:avLst/>
          </a:prstGeom>
          <a:ln w="0">
            <a:noFill/>
          </a:ln>
        </p:spPr>
      </p:pic>
      <p:sp>
        <p:nvSpPr>
          <p:cNvPr id="158" name="Rectángulo 10"/>
          <p:cNvSpPr/>
          <p:nvPr/>
        </p:nvSpPr>
        <p:spPr>
          <a:xfrm>
            <a:off x="2141640" y="1762200"/>
            <a:ext cx="4208400" cy="504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FACTOR EFICIENCIA O RE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ángulo 1"/>
          <p:cNvGrpSpPr/>
          <p:nvPr/>
        </p:nvGrpSpPr>
        <p:grpSpPr>
          <a:xfrm>
            <a:off x="3425760" y="5218200"/>
            <a:ext cx="1822680" cy="963360"/>
            <a:chOff x="3425760" y="5218200"/>
            <a:chExt cx="1822680" cy="963360"/>
          </a:xfrm>
        </p:grpSpPr>
        <p:pic>
          <p:nvPicPr>
            <p:cNvPr id="160" name="Rectángulo 1" descr=""/>
            <p:cNvPicPr/>
            <p:nvPr/>
          </p:nvPicPr>
          <p:blipFill>
            <a:blip r:embed="rId5"/>
            <a:stretch/>
          </p:blipFill>
          <p:spPr>
            <a:xfrm>
              <a:off x="3425760" y="5218200"/>
              <a:ext cx="18226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438360" y="5230800"/>
              <a:ext cx="17989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000" spc="-1" strike="noStrike">
                  <a:solidFill>
                    <a:srgbClr val="000000"/>
                  </a:solidFill>
                  <a:latin typeface="Calibri"/>
                </a:rPr>
                <a:t>40 PU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2" name="Conector recto de flecha 3"/>
          <p:cNvCxnSpPr/>
          <p:nvPr/>
        </p:nvCxnSpPr>
        <p:spPr>
          <a:xfrm>
            <a:off x="2356920" y="4941720"/>
            <a:ext cx="1081800" cy="75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3" name="Conector recto de flecha 11"/>
          <p:cNvCxnSpPr/>
          <p:nvPr/>
        </p:nvCxnSpPr>
        <p:spPr>
          <a:xfrm flipH="1">
            <a:off x="5236920" y="4941720"/>
            <a:ext cx="1257840" cy="75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4" name="Conector recto de flecha 15"/>
          <p:cNvCxnSpPr>
            <a:stCxn id="156" idx="0"/>
          </p:cNvCxnSpPr>
          <p:nvPr/>
        </p:nvCxnSpPr>
        <p:spPr>
          <a:xfrm flipV="1">
            <a:off x="2546280" y="2266200"/>
            <a:ext cx="1037520" cy="35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5" name="Conector recto de flecha 17"/>
          <p:cNvCxnSpPr/>
          <p:nvPr/>
        </p:nvCxnSpPr>
        <p:spPr>
          <a:xfrm>
            <a:off x="5025600" y="2288880"/>
            <a:ext cx="865800" cy="35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50800" y="1599840"/>
            <a:ext cx="764064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AUDIENCIAS EFECTIVAMENTE REALIZ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 proporción entre las audiencias efectivamente atendidas y las solicitadas correspondan al 100%, se asignarán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10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s audiencias atendidas efectivamente, no correspondan al 100% de las audiencias solicitadas se aplicara la siguiente formul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F86D-B810-4910-B259-CA6412557D3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16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1" name="Título 1"/>
          <p:cNvSpPr/>
          <p:nvPr/>
        </p:nvSpPr>
        <p:spPr>
          <a:xfrm>
            <a:off x="1274760" y="260280"/>
            <a:ext cx="3817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ángulo 8"/>
          <p:cNvSpPr/>
          <p:nvPr/>
        </p:nvSpPr>
        <p:spPr>
          <a:xfrm>
            <a:off x="735120" y="5157720"/>
            <a:ext cx="7272360" cy="935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Calificación subfactor proporción de audiencias efectivamente realizadas: (número de audiencias efectivamente atendidas / número de audiencias solicitadas) X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63400" y="1599840"/>
            <a:ext cx="75549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DETERMINACIÓN DEL TIEMPO ESTÁND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 entenderá como estándar el tiempo correspondiente a la cota máxima de duración de audiencias que resulte al tomar el diez por ciento (10%) del total de los despachos de la misma jurisdicción, especialidad, categoría o sección que corresponda a los que registran menores duraciones de audiencias dentro del período, por audiencia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 Sala Administrativa del Consejo Superior de la Judicatura establecerá la cifra con anteriorida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44EE-9826-4791-AABA-2CB029565E3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17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8" name="Título 1"/>
          <p:cNvSpPr/>
          <p:nvPr/>
        </p:nvSpPr>
        <p:spPr>
          <a:xfrm>
            <a:off x="1274760" y="260280"/>
            <a:ext cx="3817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8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74400" y="620280"/>
            <a:ext cx="7791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c000"/>
                </a:solidFill>
                <a:uFillTx/>
                <a:latin typeface="Calibri"/>
                <a:ea typeface="MS PGothic"/>
              </a:rPr>
              <a:t>JUEZ CONTROL DE GARANTIAS </a:t>
            </a:r>
            <a:br>
              <a:rPr sz="1800"/>
            </a:br>
            <a:r>
              <a:rPr b="0" lang="es-ES" sz="1800" spc="-1" strike="noStrike" u="sng">
                <a:solidFill>
                  <a:srgbClr val="ffc000"/>
                </a:solidFill>
                <a:uFillTx/>
                <a:latin typeface="Calibri"/>
                <a:ea typeface="MS PGothic"/>
              </a:rPr>
              <a:t>FACTOR EFICIENCIA </a:t>
            </a:r>
            <a:br>
              <a:rPr sz="1800"/>
            </a:br>
            <a:r>
              <a:rPr b="0" lang="es-ES" sz="1800" spc="-1" strike="noStrike" u="sng">
                <a:solidFill>
                  <a:srgbClr val="ffc000"/>
                </a:solidFill>
                <a:uFillTx/>
                <a:latin typeface="Calibri"/>
                <a:ea typeface="MS PGothic"/>
              </a:rPr>
              <a:t>TIEMPO PROMEDIO Y </a:t>
            </a:r>
            <a:br>
              <a:rPr sz="1800"/>
            </a:br>
            <a:r>
              <a:rPr b="0" lang="es-ES" sz="1800" spc="-1" strike="noStrike" u="sng">
                <a:solidFill>
                  <a:srgbClr val="ffc000"/>
                </a:solidFill>
                <a:uFillTx/>
                <a:latin typeface="Calibri"/>
                <a:ea typeface="MS PGothic"/>
              </a:rPr>
              <a:t>TIEMPO ESTAND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027320" y="1790640"/>
          <a:ext cx="970200" cy="4446720"/>
        </p:xfrm>
        <a:graphic>
          <a:graphicData uri="http://schemas.openxmlformats.org/drawingml/2006/table">
            <a:tbl>
              <a:tblPr/>
              <a:tblGrid>
                <a:gridCol w="970200"/>
              </a:tblGrid>
              <a:tr h="4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MINU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MT Black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4" name="Group 49" descr=""/>
          <p:cNvPicPr/>
          <p:nvPr/>
        </p:nvPicPr>
        <p:blipFill>
          <a:blip r:embed="rId3"/>
          <a:stretch/>
        </p:blipFill>
        <p:spPr>
          <a:xfrm>
            <a:off x="622440" y="1951200"/>
            <a:ext cx="1682640" cy="3931920"/>
          </a:xfrm>
          <a:prstGeom prst="rect">
            <a:avLst/>
          </a:prstGeom>
          <a:ln w="0">
            <a:noFill/>
          </a:ln>
        </p:spPr>
      </p:pic>
      <p:sp>
        <p:nvSpPr>
          <p:cNvPr id="185" name="Oval 51"/>
          <p:cNvSpPr/>
          <p:nvPr/>
        </p:nvSpPr>
        <p:spPr>
          <a:xfrm>
            <a:off x="6948360" y="3112920"/>
            <a:ext cx="1076400" cy="1376640"/>
          </a:xfrm>
          <a:prstGeom prst="ellipse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r t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aud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3"/>
          <p:cNvSpPr/>
          <p:nvPr/>
        </p:nvSpPr>
        <p:spPr>
          <a:xfrm>
            <a:off x="2641680" y="2849400"/>
            <a:ext cx="100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AutoShape 57"/>
          <p:cNvCxnSpPr/>
          <p:nvPr/>
        </p:nvCxnSpPr>
        <p:spPr>
          <a:xfrm>
            <a:off x="5022360" y="2060640"/>
            <a:ext cx="1926360" cy="180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AutoShape 59"/>
          <p:cNvCxnSpPr>
            <a:endCxn id="185" idx="2"/>
          </p:cNvCxnSpPr>
          <p:nvPr/>
        </p:nvCxnSpPr>
        <p:spPr>
          <a:xfrm>
            <a:off x="5022360" y="2752200"/>
            <a:ext cx="1926360" cy="104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AutoShape 60"/>
          <p:cNvCxnSpPr>
            <a:endCxn id="185" idx="2"/>
          </p:cNvCxnSpPr>
          <p:nvPr/>
        </p:nvCxnSpPr>
        <p:spPr>
          <a:xfrm>
            <a:off x="5022360" y="3666600"/>
            <a:ext cx="1926360" cy="13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AutoShape 61"/>
          <p:cNvCxnSpPr>
            <a:endCxn id="185" idx="2"/>
          </p:cNvCxnSpPr>
          <p:nvPr/>
        </p:nvCxnSpPr>
        <p:spPr>
          <a:xfrm flipV="1">
            <a:off x="5022360" y="3800160"/>
            <a:ext cx="192636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AutoShape 62"/>
          <p:cNvCxnSpPr>
            <a:endCxn id="185" idx="2"/>
          </p:cNvCxnSpPr>
          <p:nvPr/>
        </p:nvCxnSpPr>
        <p:spPr>
          <a:xfrm flipV="1">
            <a:off x="5022360" y="3800160"/>
            <a:ext cx="1926360" cy="207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" name="Text Box 63"/>
          <p:cNvSpPr/>
          <p:nvPr/>
        </p:nvSpPr>
        <p:spPr>
          <a:xfrm>
            <a:off x="2502000" y="1838160"/>
            <a:ext cx="10857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MS PGothic"/>
              </a:rPr>
              <a:t>10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MS PGothic"/>
              </a:rPr>
              <a:t>MEN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MS PGothic"/>
              </a:rPr>
              <a:t>DUR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4"/>
          <p:cNvSpPr/>
          <p:nvPr/>
        </p:nvSpPr>
        <p:spPr>
          <a:xfrm>
            <a:off x="6750000" y="24908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MS PGothic"/>
              </a:rPr>
              <a:t>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3"/>
          <p:cNvSpPr/>
          <p:nvPr/>
        </p:nvSpPr>
        <p:spPr>
          <a:xfrm>
            <a:off x="2641680" y="3421080"/>
            <a:ext cx="100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3"/>
          <p:cNvSpPr/>
          <p:nvPr/>
        </p:nvSpPr>
        <p:spPr>
          <a:xfrm>
            <a:off x="2641680" y="3992400"/>
            <a:ext cx="100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3"/>
          <p:cNvSpPr/>
          <p:nvPr/>
        </p:nvSpPr>
        <p:spPr>
          <a:xfrm>
            <a:off x="2641680" y="4564080"/>
            <a:ext cx="100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63400" y="1599840"/>
            <a:ext cx="75549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RELACIÓN TIEMPO PROMEDIO Y TIEMPO ESTÁND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 duración promedio del despacho por solicitud sea inferior al estándar, se asignara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30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no corresponda al 100% se aplicara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70CC-2189-44B4-98BF-02AB5C7A1A1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0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02" name="Título 1"/>
          <p:cNvSpPr/>
          <p:nvPr/>
        </p:nvSpPr>
        <p:spPr>
          <a:xfrm>
            <a:off x="1274760" y="260280"/>
            <a:ext cx="3817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ángulo 8"/>
          <p:cNvSpPr/>
          <p:nvPr/>
        </p:nvSpPr>
        <p:spPr>
          <a:xfrm>
            <a:off x="990720" y="4724280"/>
            <a:ext cx="6905520" cy="8654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lación tiempo promedio y tiempo estándar: (tiempo estándar audiencias / tiempo promedio de audiencia en el despacho) X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5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6"/>
          <p:cNvSpPr/>
          <p:nvPr/>
        </p:nvSpPr>
        <p:spPr>
          <a:xfrm>
            <a:off x="1249200" y="361800"/>
            <a:ext cx="40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MODELO DE CALIFICACIÓN DE FUNCIO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1332000" y="1628640"/>
            <a:ext cx="619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Reporte de inform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 Rectángulo"/>
          <p:cNvSpPr/>
          <p:nvPr/>
        </p:nvSpPr>
        <p:spPr>
          <a:xfrm>
            <a:off x="587520" y="2565360"/>
            <a:ext cx="74833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calificación de este factor se realizará por la Salas Administrativas de los Consejos Superior y Seccionales de la Judicatu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rtículo 104 de la Ley 270 de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Acuerdo 2915 de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E7F5-1431-4D46-BF88-844593DE639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63400" y="1599840"/>
            <a:ext cx="75549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FBEA-2457-4172-87B6-D73F48AB6C8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07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09" name="Título 1"/>
          <p:cNvSpPr/>
          <p:nvPr/>
        </p:nvSpPr>
        <p:spPr>
          <a:xfrm>
            <a:off x="1274760" y="260280"/>
            <a:ext cx="3817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ángulo 8"/>
          <p:cNvSpPr/>
          <p:nvPr/>
        </p:nvSpPr>
        <p:spPr>
          <a:xfrm>
            <a:off x="590400" y="1538280"/>
            <a:ext cx="7634520" cy="47419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773520" y="1538280"/>
          <a:ext cx="4537080" cy="4668840"/>
        </p:xfrm>
        <a:graphic>
          <a:graphicData uri="http://schemas.openxmlformats.org/drawingml/2006/table">
            <a:tbl>
              <a:tblPr/>
              <a:tblGrid>
                <a:gridCol w="1152360"/>
                <a:gridCol w="455760"/>
                <a:gridCol w="799920"/>
                <a:gridCol w="1000440"/>
                <a:gridCol w="1128600"/>
              </a:tblGrid>
              <a:tr h="63828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ÓN ENTRE EL TIEMPO PROMEDIO Y EL TIEMPO ESTÁN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ENCI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PROMEDIO DEL DESPACH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ESTANDAR. ART.53 Ac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DURACIÓN AUDI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ÓN TIEMPO PROME. Y T. 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ALIZACION DE CAP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5/40)*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446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CION DE IMPUTAC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0/60)*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DE ASEGURAMI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EN DE CAP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ALIZACION MEDIO PROBATO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12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CACIÓN PRINCIPIO OPORTUN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0/55)*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09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SOLICITU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0/45)*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,19/7=27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212" name="CuadroTexto 4"/>
          <p:cNvSpPr/>
          <p:nvPr/>
        </p:nvSpPr>
        <p:spPr>
          <a:xfrm>
            <a:off x="774720" y="1843200"/>
            <a:ext cx="2808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3"/>
          <p:cNvSpPr/>
          <p:nvPr/>
        </p:nvSpPr>
        <p:spPr>
          <a:xfrm>
            <a:off x="2665440" y="2600280"/>
            <a:ext cx="8748720" cy="457200"/>
          </a:xfrm>
          <a:prstGeom prst="rect">
            <a:avLst/>
          </a:prstGeom>
          <a:noFill/>
          <a:ln w="0">
            <a:noFill/>
          </a:ln>
          <a:effectLst>
            <a:outerShdw dist="117181" dir="1916163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85640" y="1538280"/>
          <a:ext cx="3240360" cy="4741920"/>
        </p:xfrm>
        <a:graphic>
          <a:graphicData uri="http://schemas.openxmlformats.org/drawingml/2006/table">
            <a:tbl>
              <a:tblPr/>
              <a:tblGrid>
                <a:gridCol w="733680"/>
                <a:gridCol w="738000"/>
                <a:gridCol w="588960"/>
                <a:gridCol w="443160"/>
                <a:gridCol w="736560"/>
              </a:tblGrid>
              <a:tr h="46188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ORCIÓN DE AUDIENCIAS EFECTIVAMENTE REALIZAD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POS DE AUDIENCI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UDIENCIAS PROGRAMAD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ENCIAS ATENDID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ENCIAS NO REALIZAD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S AJE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 DEL DESPAC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52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ALIZACION DE CAP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CION DE IMPUTAC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52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DA DE ASEGURAMI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41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. CAP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7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ALIZACION MEDIO PROBATO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90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CACIÓN PRINCIPIO OPORTUN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57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SOLICITU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6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63400" y="1599840"/>
            <a:ext cx="75549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2F9A-C9C5-4568-BBE4-4DD997B3F88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1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20" name="Título 1"/>
          <p:cNvSpPr/>
          <p:nvPr/>
        </p:nvSpPr>
        <p:spPr>
          <a:xfrm>
            <a:off x="1274760" y="260280"/>
            <a:ext cx="3817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JUECES CON FUNCIÓN DE GARANTÍAS LEY 906 DE 2004 Y LEY 1098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ángulo 8"/>
          <p:cNvSpPr/>
          <p:nvPr/>
        </p:nvSpPr>
        <p:spPr>
          <a:xfrm>
            <a:off x="590400" y="1600200"/>
            <a:ext cx="3856320" cy="4680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PROPORCIÓN DE AUDIENCIAS EFECTIVAMENTE REA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Audiencias programadas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      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Total Aud. Atendidas   5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A. No A. causas ajenas  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Total Audiencias Realizadas     6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SAPyA  = </a:t>
            </a:r>
            <a:r>
              <a:rPr b="1" lang="es-CO" sz="2000" spc="-1" strike="noStrike" u="sng">
                <a:solidFill>
                  <a:srgbClr val="000000"/>
                </a:solidFill>
                <a:uFillTx/>
                <a:latin typeface="Calibri"/>
              </a:rPr>
              <a:t>No.A E.A.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  *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No. A.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SAPyA =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000" spc="-1" strike="noStrike" u="sng">
                <a:solidFill>
                  <a:srgbClr val="000000"/>
                </a:solidFill>
                <a:uFillTx/>
                <a:latin typeface="Calibri"/>
              </a:rPr>
              <a:t>665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*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SAPyA = 9,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uadroTexto 4"/>
          <p:cNvSpPr/>
          <p:nvPr/>
        </p:nvSpPr>
        <p:spPr>
          <a:xfrm>
            <a:off x="774720" y="1843200"/>
            <a:ext cx="2808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2665440" y="2600280"/>
            <a:ext cx="8748720" cy="457200"/>
          </a:xfrm>
          <a:prstGeom prst="rect">
            <a:avLst/>
          </a:prstGeom>
          <a:noFill/>
          <a:ln w="0">
            <a:noFill/>
          </a:ln>
          <a:effectLst>
            <a:outerShdw dist="117181" dir="1916163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uadroTexto 12"/>
          <p:cNvSpPr/>
          <p:nvPr/>
        </p:nvSpPr>
        <p:spPr>
          <a:xfrm>
            <a:off x="4559400" y="1585800"/>
            <a:ext cx="3585960" cy="46677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RELACIÓN ENTRE EL TIEMPO PROMEDIO Y EL TIEMPO ESTÁND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RTP/TE= 27,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CF=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SAPyA + 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CF= 9,93 + 27,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CF= 37,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orchetes 16"/>
          <p:cNvSpPr/>
          <p:nvPr/>
        </p:nvSpPr>
        <p:spPr>
          <a:xfrm>
            <a:off x="1494000" y="4071960"/>
            <a:ext cx="1177920" cy="6476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rchetes 17"/>
          <p:cNvSpPr/>
          <p:nvPr/>
        </p:nvSpPr>
        <p:spPr>
          <a:xfrm>
            <a:off x="1530360" y="4991040"/>
            <a:ext cx="611280" cy="576360"/>
          </a:xfrm>
          <a:prstGeom prst="bracketPair">
            <a:avLst>
              <a:gd name="adj" fmla="val 17129"/>
            </a:avLst>
          </a:pr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22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49200" y="369720"/>
            <a:ext cx="38433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Arial"/>
              </a:rPr>
              <a:t>FACTOR EFICIENCIA O RENDIMIENTO – JUECES DE CONOCIMIENTO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3"/>
          <a:stretch/>
        </p:blipFill>
        <p:spPr>
          <a:xfrm>
            <a:off x="633240" y="1474920"/>
            <a:ext cx="7577280" cy="3395520"/>
          </a:xfrm>
          <a:prstGeom prst="rect">
            <a:avLst/>
          </a:prstGeom>
          <a:ln w="0">
            <a:noFill/>
          </a:ln>
        </p:spPr>
      </p:pic>
      <p:pic>
        <p:nvPicPr>
          <p:cNvPr id="232" name="Diagrama 4" descr=""/>
          <p:cNvPicPr/>
          <p:nvPr/>
        </p:nvPicPr>
        <p:blipFill>
          <a:blip r:embed="rId4"/>
          <a:stretch/>
        </p:blipFill>
        <p:spPr>
          <a:xfrm>
            <a:off x="628560" y="3041640"/>
            <a:ext cx="7418520" cy="3054240"/>
          </a:xfrm>
          <a:prstGeom prst="rect">
            <a:avLst/>
          </a:prstGeom>
          <a:ln w="0">
            <a:noFill/>
          </a:ln>
        </p:spPr>
      </p:pic>
      <p:grpSp>
        <p:nvGrpSpPr>
          <p:cNvPr id="233" name="Line 13"/>
          <p:cNvGrpSpPr/>
          <p:nvPr/>
        </p:nvGrpSpPr>
        <p:grpSpPr>
          <a:xfrm>
            <a:off x="2517840" y="2951280"/>
            <a:ext cx="1341360" cy="682560"/>
            <a:chOff x="2517840" y="2951280"/>
            <a:chExt cx="1341360" cy="682560"/>
          </a:xfrm>
        </p:grpSpPr>
        <p:pic>
          <p:nvPicPr>
            <p:cNvPr id="234" name="Line 13" descr=""/>
            <p:cNvPicPr/>
            <p:nvPr/>
          </p:nvPicPr>
          <p:blipFill>
            <a:blip r:embed="rId5"/>
            <a:stretch/>
          </p:blipFill>
          <p:spPr>
            <a:xfrm>
              <a:off x="2517840" y="2951280"/>
              <a:ext cx="13413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798720" y="2997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Line 17"/>
          <p:cNvGrpSpPr/>
          <p:nvPr/>
        </p:nvGrpSpPr>
        <p:grpSpPr>
          <a:xfrm>
            <a:off x="4748040" y="2882880"/>
            <a:ext cx="1208160" cy="682560"/>
            <a:chOff x="4748040" y="2882880"/>
            <a:chExt cx="1208160" cy="682560"/>
          </a:xfrm>
        </p:grpSpPr>
        <p:pic>
          <p:nvPicPr>
            <p:cNvPr id="237" name="Line 17" descr=""/>
            <p:cNvPicPr/>
            <p:nvPr/>
          </p:nvPicPr>
          <p:blipFill>
            <a:blip r:embed="rId6"/>
            <a:stretch/>
          </p:blipFill>
          <p:spPr>
            <a:xfrm>
              <a:off x="4748040" y="2882880"/>
              <a:ext cx="1208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809960" y="2935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A951-90A6-4A2D-B603-16223E41145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41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43" name="Título 1"/>
          <p:cNvSpPr/>
          <p:nvPr/>
        </p:nvSpPr>
        <p:spPr>
          <a:xfrm>
            <a:off x="1274760" y="284040"/>
            <a:ext cx="3817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PROMISCUOS MUNICIPALES, FUNCIONARIOS CON COMPETENCIA MIXTA Y ESCRI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1280" y="1490400"/>
            <a:ext cx="73436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  <a:ea typeface="Arial"/>
              </a:rPr>
              <a:t>Jueces Promiscuos Municipales y Funcionarios Con Competencia Mixta:</a:t>
            </a:r>
            <a:r>
              <a:rPr b="1" lang="es-MX" sz="2400" spc="-1" strike="noStrike">
                <a:solidFill>
                  <a:srgbClr val="ffc000"/>
                </a:solidFill>
                <a:latin typeface="Calibri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ponderan los indicadores establecidos en este Acuerdo para cada uno de los procedimien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88600" y="1557000"/>
            <a:ext cx="748836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s 40 puntos de este factor se distribuirán proporcionalmente en los siguientes factor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l Juez coordinador cuando desarrolle audiencias de control de garantías o de conocimiento y/o trámite de Ley 600 de 2000 su calificación se ponderará con las funciones de coordin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5D0F-D332-4C2A-9D45-309411D1D98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4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50" name="Título 1"/>
          <p:cNvSpPr/>
          <p:nvPr/>
        </p:nvSpPr>
        <p:spPr>
          <a:xfrm>
            <a:off x="1274760" y="284040"/>
            <a:ext cx="3817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Z COORDINADOR HASTA 40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30360" y="2781360"/>
          <a:ext cx="7416720" cy="22064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482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Organización, programación, registro y control de la celebración de audiencias de garantías que solicitan las partes e intervinientes del proces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tención oportuna  e integral de los informes solicitados por las autoridades administrativas de la Rama Judicial, sobre el funcionamiento y gestión del centro de servici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Oportunidad en la toma de decisiones frente a la adopción de medidas urgentes para el traslado de empleados entre el centro de servicios y los despachos pertenecientes al sistema penal acusatori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Oportunidad en la expedición de providencias y comunicaciones a su carg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54040" y="1216080"/>
            <a:ext cx="76089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 funcionario evaluado remitirá un informe de la actuaciones adelantadas durante el período en los procesos a su cargo y demás actuaciones adelantadas, teniendo en cuenta la fecha y complejidad excepcional de los procesos, a su superior funcional, haciendo las explicaciones sobre las particularidades de los procesos y su trámite y sobre la gestión e impulso dado a los mismos. El superior funcional emitirá un concepto, indicando si el cumplimiento de términos de los mismos fu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8FFE-ACA0-412D-8589-DF19A5B1B3D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3 Imagen" descr="logo csj 2009.jpg"/>
          <p:cNvPicPr/>
          <p:nvPr/>
        </p:nvPicPr>
        <p:blipFill>
          <a:blip r:embed="rId1"/>
          <a:stretch/>
        </p:blipFill>
        <p:spPr>
          <a:xfrm>
            <a:off x="563400" y="403200"/>
            <a:ext cx="698760" cy="925560"/>
          </a:xfrm>
          <a:prstGeom prst="rect">
            <a:avLst/>
          </a:prstGeom>
          <a:ln w="0">
            <a:noFill/>
          </a:ln>
        </p:spPr>
      </p:pic>
      <p:sp>
        <p:nvSpPr>
          <p:cNvPr id="255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6 Imagen" descr="palo ejrlb.png"/>
          <p:cNvPicPr/>
          <p:nvPr/>
        </p:nvPicPr>
        <p:blipFill>
          <a:blip r:embed="rId2"/>
          <a:stretch/>
        </p:blipFill>
        <p:spPr>
          <a:xfrm>
            <a:off x="4808520" y="123192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57" name="Título 1"/>
          <p:cNvSpPr/>
          <p:nvPr/>
        </p:nvSpPr>
        <p:spPr>
          <a:xfrm>
            <a:off x="1274760" y="284040"/>
            <a:ext cx="44593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</a:t>
            </a:r>
            <a:r>
              <a:rPr b="1" lang="es-MX" sz="1600" spc="-1" strike="noStrike">
                <a:solidFill>
                  <a:srgbClr val="ffc000"/>
                </a:solidFill>
                <a:latin typeface="Calibri"/>
                <a:ea typeface="MS PGothic"/>
              </a:rPr>
              <a:t>FUNCIONARIOS ESPECIALIZADOS EN EXTINCIÓN DE DOMINIO Y LAVADO DE ACTIVOS; FONCOLPUERTOS Y CAJANAL y RESTITUCION DE TIER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349280" y="4292640"/>
          <a:ext cx="6048360" cy="182880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ALAS DE CAL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  DE 31 A 40 PU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 DE 20 A 30 PUN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PTABLE DE 11 A 19 PUN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ATISFACTORIO DE 0 A 10 PUN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E0A3-8197-49D2-B9FB-3BAD22D09246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61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6 Imagen" descr="palo ejrlb.png"/>
          <p:cNvPicPr/>
          <p:nvPr/>
        </p:nvPicPr>
        <p:blipFill>
          <a:blip r:embed="rId2"/>
          <a:stretch/>
        </p:blipFill>
        <p:spPr>
          <a:xfrm>
            <a:off x="3798720" y="1052640"/>
            <a:ext cx="2151360" cy="102960"/>
          </a:xfrm>
          <a:prstGeom prst="rect">
            <a:avLst/>
          </a:prstGeom>
          <a:ln w="0">
            <a:noFill/>
          </a:ln>
        </p:spPr>
      </p:pic>
      <p:sp>
        <p:nvSpPr>
          <p:cNvPr id="263" name="Título 1"/>
          <p:cNvSpPr/>
          <p:nvPr/>
        </p:nvSpPr>
        <p:spPr>
          <a:xfrm>
            <a:off x="1274760" y="284040"/>
            <a:ext cx="3819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DE EJECUCIÓN DE PENAS Y MEDIDAS DE SEGUR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0000" y="1599840"/>
            <a:ext cx="73436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puntaje en el factor eficiencia o rendimiento se obtendrá con base en la metodología para calificar el subfactor Respuesta Efectiva a la demanda de Justicia por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40 puntos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El Ingreso: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Integrado por las actuaciones iniciadas de oficio o a petición de parte, solicitudes presentadas por los interesados, acciones constitucionales, incidentes de desacato en tutela que ingresen en el perío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s acciones de oficio constituyen visitas a las cárceles, penitenciarias y establecimientos de internació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El Egreso: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o Constituye las solicitudes y acciones constitucionales e incidentes de desacatos decididos y las actuaciones realizadas durante el perío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92200" y="1628640"/>
            <a:ext cx="7238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puntaje en el factor eficiencia o rendimiento se obtendrá con base en la metodología prevista para calificar el subfactor Respuesta Efectiva a la demanda de Justicia por 40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La Carga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constituye</a:t>
            </a: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l inventario total al iniciar el período de procesos activos con sentencia o decisión que puso fin a la insta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nventario inicial de procesos activos en los que se declaró la nulid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rocesos recibidos para ejecución durante el perí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cciones constitucionales, incidentes de desacato de tutel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ctuaciones que den lugar a resolver, recursos, objeciones periciales, a la liquidación de costas y de créditos, incidentes, oposic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DF45-21F4-4A04-9893-B2635CD6708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68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6 Imagen" descr="palo ejrlb.png"/>
          <p:cNvPicPr/>
          <p:nvPr/>
        </p:nvPicPr>
        <p:blipFill>
          <a:blip r:embed="rId2"/>
          <a:stretch/>
        </p:blipFill>
        <p:spPr>
          <a:xfrm>
            <a:off x="3870360" y="1184400"/>
            <a:ext cx="2151000" cy="102960"/>
          </a:xfrm>
          <a:prstGeom prst="rect">
            <a:avLst/>
          </a:prstGeom>
          <a:ln w="0">
            <a:noFill/>
          </a:ln>
        </p:spPr>
      </p:pic>
      <p:sp>
        <p:nvSpPr>
          <p:cNvPr id="270" name="Título 1"/>
          <p:cNvSpPr/>
          <p:nvPr/>
        </p:nvSpPr>
        <p:spPr>
          <a:xfrm>
            <a:off x="1274760" y="284040"/>
            <a:ext cx="3819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DE EJECUCIÓN DE SENTENCIAS EN CIVIL Y FAMILIA HASTA 40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No hace parte de la carg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rocesos sin decisión definitiva, suspendidos o interrumpidos los últimos 6 me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rocesos que debieron renovarse antes de ejecución sin sentencia y sin tramite los últimos 6 me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os procesos enviados a otro funcionario en Descongest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rocesos sin sentencia o decisión de fondo en instancia, por competencia o impedim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cciones constitucionales rechazadas o retiradas o recibidas los 3 últimos meses del perío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En 2ª instancia recursos o consultas devueltas o inadmitidas, por desistimiento de recurr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97AC-C53C-41F2-84E8-607D80A3E03B}" type="slidenum">
              <a:rPr b="0" lang="es-CO" sz="3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74" name="2 Subtítulo"/>
          <p:cNvSpPr/>
          <p:nvPr/>
        </p:nvSpPr>
        <p:spPr>
          <a:xfrm>
            <a:off x="5506920" y="56052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6 Imagen" descr="palo ejrlb.png"/>
          <p:cNvPicPr/>
          <p:nvPr/>
        </p:nvPicPr>
        <p:blipFill>
          <a:blip r:embed="rId2"/>
          <a:stretch/>
        </p:blipFill>
        <p:spPr>
          <a:xfrm>
            <a:off x="3870360" y="1052640"/>
            <a:ext cx="2151000" cy="102960"/>
          </a:xfrm>
          <a:prstGeom prst="rect">
            <a:avLst/>
          </a:prstGeom>
          <a:ln w="0">
            <a:noFill/>
          </a:ln>
        </p:spPr>
      </p:pic>
      <p:sp>
        <p:nvSpPr>
          <p:cNvPr id="276" name="Título 1"/>
          <p:cNvSpPr/>
          <p:nvPr/>
        </p:nvSpPr>
        <p:spPr>
          <a:xfrm>
            <a:off x="1274760" y="284040"/>
            <a:ext cx="3819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DE EJECUCIÓN DE SENTENCIAS EN CIVIL Y FAMILIA -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576360" y="1328760"/>
          <a:ext cx="7610400" cy="2604960"/>
        </p:xfrm>
        <a:graphic>
          <a:graphicData uri="http://schemas.openxmlformats.org/drawingml/2006/table">
            <a:tbl>
              <a:tblPr/>
              <a:tblGrid>
                <a:gridCol w="7610400"/>
              </a:tblGrid>
              <a:tr h="32040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GRESO 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ido por</a:t>
                      </a: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procesos y acciones constitucionales con sentencia o decisión, que decida de fon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os decretados con perención y  auto de terminación o ejecución por cualquier caus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s que deciden incidentes de desacato en tutel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047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s que resuelven recursos, objeciones al dictamen pericial, objeción a la liquidación de costas y de crédito, incidente u oposición, dispone citación a terceros, decreta la practica o levantamiento de medidas cautelares, ordena entrega títulos de depósito judicial: cesión de créditos y aprueba remate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2ª instancia auto que decide la instancia y el que decreta nulidad del proces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27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FDD9-75A2-4360-A2E6-848FD6488B3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80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6 Imagen" descr="palo ejrlb.png"/>
          <p:cNvPicPr/>
          <p:nvPr/>
        </p:nvPicPr>
        <p:blipFill>
          <a:blip r:embed="rId2"/>
          <a:stretch/>
        </p:blipFill>
        <p:spPr>
          <a:xfrm>
            <a:off x="3870360" y="1052640"/>
            <a:ext cx="2151000" cy="102960"/>
          </a:xfrm>
          <a:prstGeom prst="rect">
            <a:avLst/>
          </a:prstGeom>
          <a:ln w="0">
            <a:noFill/>
          </a:ln>
        </p:spPr>
      </p:pic>
      <p:sp>
        <p:nvSpPr>
          <p:cNvPr id="282" name="Título 1"/>
          <p:cNvSpPr/>
          <p:nvPr/>
        </p:nvSpPr>
        <p:spPr>
          <a:xfrm>
            <a:off x="1274760" y="284040"/>
            <a:ext cx="3819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DE EJECUCIÓN DE SENTENCIAS EN CIVIL Y FAMILIA -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76360" y="4005360"/>
          <a:ext cx="7610400" cy="2401920"/>
        </p:xfrm>
        <a:graphic>
          <a:graphicData uri="http://schemas.openxmlformats.org/drawingml/2006/table">
            <a:tbl>
              <a:tblPr/>
              <a:tblGrid>
                <a:gridCol w="76104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es EGRESO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n 1ª instancia los procesos rechazados y acciones constitucionales rechazadas o retirad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enviados a otro funcionario por descongest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que al final estén a cargo de otro funcionario por descongest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activos en trámite, enviados a otro despacho por competencia o impedimen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n 2ª instancia, recursos, consultas devueltos o declarados desiertos o inadmitidos o con desistimiento del recurrente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61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6480" y="272880"/>
            <a:ext cx="41036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Arial"/>
              </a:rPr>
              <a:t>FACTOR EFICIENCIA O RENDI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3"/>
          <a:stretch/>
        </p:blipFill>
        <p:spPr>
          <a:xfrm>
            <a:off x="195120" y="1335240"/>
            <a:ext cx="8431200" cy="5217840"/>
          </a:xfrm>
          <a:prstGeom prst="rect">
            <a:avLst/>
          </a:prstGeom>
          <a:ln w="0">
            <a:noFill/>
          </a:ln>
        </p:spPr>
      </p:pic>
      <p:pic>
        <p:nvPicPr>
          <p:cNvPr id="65" name="Diagrama 4" descr=""/>
          <p:cNvPicPr/>
          <p:nvPr/>
        </p:nvPicPr>
        <p:blipFill>
          <a:blip r:embed="rId4"/>
          <a:stretch/>
        </p:blipFill>
        <p:spPr>
          <a:xfrm>
            <a:off x="566640" y="2925720"/>
            <a:ext cx="7364520" cy="3670200"/>
          </a:xfrm>
          <a:prstGeom prst="rect">
            <a:avLst/>
          </a:prstGeom>
          <a:ln w="0">
            <a:noFill/>
          </a:ln>
        </p:spPr>
      </p:pic>
      <p:grpSp>
        <p:nvGrpSpPr>
          <p:cNvPr id="66" name="Line 13"/>
          <p:cNvGrpSpPr/>
          <p:nvPr/>
        </p:nvGrpSpPr>
        <p:grpSpPr>
          <a:xfrm>
            <a:off x="3200400" y="3048120"/>
            <a:ext cx="689040" cy="512640"/>
            <a:chOff x="3200400" y="3048120"/>
            <a:chExt cx="689040" cy="512640"/>
          </a:xfrm>
        </p:grpSpPr>
        <p:pic>
          <p:nvPicPr>
            <p:cNvPr id="67" name="Line 13" descr=""/>
            <p:cNvPicPr/>
            <p:nvPr/>
          </p:nvPicPr>
          <p:blipFill>
            <a:blip r:embed="rId5"/>
            <a:stretch/>
          </p:blipFill>
          <p:spPr>
            <a:xfrm>
              <a:off x="3200400" y="3048120"/>
              <a:ext cx="6890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28960" y="3098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Line 17"/>
          <p:cNvGrpSpPr/>
          <p:nvPr/>
        </p:nvGrpSpPr>
        <p:grpSpPr>
          <a:xfrm>
            <a:off x="4529160" y="3071880"/>
            <a:ext cx="701640" cy="488880"/>
            <a:chOff x="4529160" y="3071880"/>
            <a:chExt cx="701640" cy="488880"/>
          </a:xfrm>
        </p:grpSpPr>
        <p:pic>
          <p:nvPicPr>
            <p:cNvPr id="70" name="Line 17" descr=""/>
            <p:cNvPicPr/>
            <p:nvPr/>
          </p:nvPicPr>
          <p:blipFill>
            <a:blip r:embed="rId6"/>
            <a:stretch/>
          </p:blipFill>
          <p:spPr>
            <a:xfrm>
              <a:off x="4529160" y="3071880"/>
              <a:ext cx="70164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91080" y="3121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464D-D934-4A75-98FB-2A2BD594F39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342B-9844-41A3-908E-0AFE7349CB56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86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6 Imagen" descr="palo ejrlb.png"/>
          <p:cNvPicPr/>
          <p:nvPr/>
        </p:nvPicPr>
        <p:blipFill>
          <a:blip r:embed="rId2"/>
          <a:stretch/>
        </p:blipFill>
        <p:spPr>
          <a:xfrm>
            <a:off x="3798720" y="1052640"/>
            <a:ext cx="2151360" cy="102960"/>
          </a:xfrm>
          <a:prstGeom prst="rect">
            <a:avLst/>
          </a:prstGeom>
          <a:ln w="0">
            <a:noFill/>
          </a:ln>
        </p:spPr>
      </p:pic>
      <p:sp>
        <p:nvSpPr>
          <p:cNvPr id="288" name="Título 1"/>
          <p:cNvSpPr/>
          <p:nvPr/>
        </p:nvSpPr>
        <p:spPr>
          <a:xfrm>
            <a:off x="1274760" y="284040"/>
            <a:ext cx="4251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ADMINISTRATIVOS HASTA 40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ángulo 13"/>
          <p:cNvSpPr/>
          <p:nvPr/>
        </p:nvSpPr>
        <p:spPr>
          <a:xfrm>
            <a:off x="1249200" y="2620800"/>
            <a:ext cx="2592720" cy="2463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RESPUESTA EFECTIVA A LA DEMANDA DE 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HASTA 35 PUNTOS.</a:t>
            </a: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ángulo 14"/>
          <p:cNvSpPr/>
          <p:nvPr/>
        </p:nvSpPr>
        <p:spPr>
          <a:xfrm>
            <a:off x="4659480" y="2620800"/>
            <a:ext cx="2663640" cy="2463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ATENCIÓN DE AUDIENCIAS PROGRA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HASTA 5 PU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ángulo 15"/>
          <p:cNvSpPr/>
          <p:nvPr/>
        </p:nvSpPr>
        <p:spPr>
          <a:xfrm>
            <a:off x="2141640" y="1762200"/>
            <a:ext cx="4208400" cy="5047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alibri"/>
              </a:rPr>
              <a:t>FACTOR EFICIECIA O RE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adroTexto 1"/>
          <p:cNvSpPr/>
          <p:nvPr/>
        </p:nvSpPr>
        <p:spPr>
          <a:xfrm>
            <a:off x="3583080" y="5438880"/>
            <a:ext cx="1439640" cy="825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40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Conector angular 3"/>
          <p:cNvCxnSpPr/>
          <p:nvPr/>
        </p:nvCxnSpPr>
        <p:spPr>
          <a:xfrm>
            <a:off x="2356920" y="5084280"/>
            <a:ext cx="1226520" cy="7930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4" name="Conector angular 5"/>
          <p:cNvCxnSpPr/>
          <p:nvPr/>
        </p:nvCxnSpPr>
        <p:spPr>
          <a:xfrm rot="5400000">
            <a:off x="5037840" y="4954680"/>
            <a:ext cx="937440" cy="9691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71C1-0D33-48F9-9442-81EEE284598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97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6 Imagen" descr="palo ejrlb.png"/>
          <p:cNvPicPr/>
          <p:nvPr/>
        </p:nvPicPr>
        <p:blipFill>
          <a:blip r:embed="rId2"/>
          <a:stretch/>
        </p:blipFill>
        <p:spPr>
          <a:xfrm>
            <a:off x="3798720" y="1052640"/>
            <a:ext cx="2151360" cy="102960"/>
          </a:xfrm>
          <a:prstGeom prst="rect">
            <a:avLst/>
          </a:prstGeom>
          <a:ln w="0">
            <a:noFill/>
          </a:ln>
        </p:spPr>
      </p:pic>
      <p:sp>
        <p:nvSpPr>
          <p:cNvPr id="299" name="Título 1"/>
          <p:cNvSpPr/>
          <p:nvPr/>
        </p:nvSpPr>
        <p:spPr>
          <a:xfrm>
            <a:off x="1274760" y="284040"/>
            <a:ext cx="4251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ADMINISTRATIVOS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4680" y="1557360"/>
          <a:ext cx="7642080" cy="2560680"/>
        </p:xfrm>
        <a:graphic>
          <a:graphicData uri="http://schemas.openxmlformats.org/drawingml/2006/table">
            <a:tbl>
              <a:tblPr/>
              <a:tblGrid>
                <a:gridCol w="7642080"/>
              </a:tblGrid>
              <a:tr h="32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A CARGA ESTARÁ CONSTITUIDA POR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Inventario inicial, procesos con tramite o activos sin sentencia o decisión de fondo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procesos reactivados de períodos anteriore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ingresados durante el perío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Demandas rechazadas por caducidad de la acción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por disposición legal, q sean tramitados por el mismo despacho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Incidentes de desacato en tutela sin tramite o decisión, sin resolver o de período anterio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Demandas rechazadas por caducidad de la acción en materia contencioso administrativ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61960" y="4130640"/>
          <a:ext cx="7624800" cy="2225880"/>
        </p:xfrm>
        <a:graphic>
          <a:graphicData uri="http://schemas.openxmlformats.org/drawingml/2006/table">
            <a:tbl>
              <a:tblPr/>
              <a:tblGrid>
                <a:gridCol w="76248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 QUE NO SE TENDRÁ EN CUENTA COMO CARGA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sin decisión definitiva, suspendidos o interrumpidos los últimos 6 mese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sin sentencia, sin  decisión, demandas no notificadas, los últimos 6 mese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procesos enviados a otro funcionario en Descongest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sin sentencia o decisión de fondo en instancia, por competencia o impedimen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cciones constitucionales rechazadas o retiradas o recibidas los 3 últimos meses del perío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1226-069D-4C48-BD63-74CE32CE2CE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3 Imagen" descr="logo csj 2009.jpg"/>
          <p:cNvPicPr/>
          <p:nvPr/>
        </p:nvPicPr>
        <p:blipFill>
          <a:blip r:embed="rId1"/>
          <a:stretch/>
        </p:blipFill>
        <p:spPr>
          <a:xfrm>
            <a:off x="576360" y="41904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304" name="2 Subtítulo"/>
          <p:cNvSpPr/>
          <p:nvPr/>
        </p:nvSpPr>
        <p:spPr>
          <a:xfrm>
            <a:off x="5383080" y="65088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6 Imagen" descr="palo ejrlb.png"/>
          <p:cNvPicPr/>
          <p:nvPr/>
        </p:nvPicPr>
        <p:blipFill>
          <a:blip r:embed="rId2"/>
          <a:stretch/>
        </p:blipFill>
        <p:spPr>
          <a:xfrm>
            <a:off x="3798720" y="1052640"/>
            <a:ext cx="2151360" cy="102960"/>
          </a:xfrm>
          <a:prstGeom prst="rect">
            <a:avLst/>
          </a:prstGeom>
          <a:ln w="0">
            <a:noFill/>
          </a:ln>
        </p:spPr>
      </p:pic>
      <p:sp>
        <p:nvSpPr>
          <p:cNvPr id="306" name="Título 1"/>
          <p:cNvSpPr/>
          <p:nvPr/>
        </p:nvSpPr>
        <p:spPr>
          <a:xfrm>
            <a:off x="1274760" y="284040"/>
            <a:ext cx="42512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JUECES ADMINISTRATIVOS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76360" y="1628640"/>
          <a:ext cx="7610400" cy="2241720"/>
        </p:xfrm>
        <a:graphic>
          <a:graphicData uri="http://schemas.openxmlformats.org/drawingml/2006/table">
            <a:tbl>
              <a:tblPr/>
              <a:tblGrid>
                <a:gridCol w="7610400"/>
              </a:tblGrid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L EGRESO ESTARÁ CONSTITUIDO POR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con sentencia o decisión que resuelva de fondo, de perención o terminación por desistimiento o desistimiento táci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Conciliación extrajudicial y el auto de aprobación o aprobación del act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Conciliación judicial aprobada por el juez y que termine el proces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uto que decide incidentes de desacato en tutel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uto que decide rechazo por caducidad de la acción en materia contencioso administrativ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76360" y="4005360"/>
          <a:ext cx="7610400" cy="2165400"/>
        </p:xfrm>
        <a:graphic>
          <a:graphicData uri="http://schemas.openxmlformats.org/drawingml/2006/table">
            <a:tbl>
              <a:tblPr/>
              <a:tblGrid>
                <a:gridCol w="7610400"/>
              </a:tblGrid>
              <a:tr h="35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 QUE NO SE TENDRÁ EN CUENTA COMO EGRESO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Demandas o acciones constitucionales rechazadas  o retiradas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55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enviados a otro funcionario para descongest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que al final del período estén a cargo de otro funcionario por descongestión para sustanciación o fall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os sin sentencia o decisión que resuelva de fondo remitidos por competencia o impedimento a otro despach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31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1254240" y="349200"/>
            <a:ext cx="3984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 JUECES ADMINIST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 Rectángulo"/>
          <p:cNvSpPr/>
          <p:nvPr/>
        </p:nvSpPr>
        <p:spPr>
          <a:xfrm>
            <a:off x="1062000" y="1557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pacidad Máxima de Respue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2 Rectángulo"/>
          <p:cNvSpPr/>
          <p:nvPr/>
        </p:nvSpPr>
        <p:spPr>
          <a:xfrm>
            <a:off x="747720" y="2454120"/>
            <a:ext cx="714852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entenderá como el cálculo del promedio de los Egresos del diez (10%) del total de los despachos de cada Jurisdicción, especialidad, sección y categoría que registren los mayores egresos del período a evalu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Sala Administrativa establecerá la cifra con anterioridad con base en las estadísticas suministradas por el SIER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lapso será entre el 1 de octubre del penúltimo año y el 30 de septiembre del último añ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5D4C-D8BD-4CBE-87FF-27FF64E31E7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90040" y="1611360"/>
            <a:ext cx="7527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Egreso igual o superior a la CMR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 = 35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Carga superior a la CMR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: se establecerá proporcionalmente sobre un total de 35 puntos con base a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Carga inferior o igual a la CMR: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 establecerá proporcionalmente sobre un total de 35 puntos con base a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B5EF-6813-4228-B433-2F29BAA0A85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31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321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 -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ángulo 8"/>
          <p:cNvSpPr/>
          <p:nvPr/>
        </p:nvSpPr>
        <p:spPr>
          <a:xfrm>
            <a:off x="1422360" y="3284640"/>
            <a:ext cx="5904000" cy="4316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(Egreso / CMR) X 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ángulo 10"/>
          <p:cNvSpPr/>
          <p:nvPr/>
        </p:nvSpPr>
        <p:spPr>
          <a:xfrm>
            <a:off x="738360" y="5384880"/>
            <a:ext cx="7272000" cy="360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-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(Egreso / Carga del Despacho) X 35</a:t>
            </a: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550440" y="1549440"/>
            <a:ext cx="75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 proporción entre las audiencias efectivamente atendidas y las programadas correspondan a 100% se asignara 5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el número de audiencias atendidas efectivamente no sea igual a las efectivamente programadas, se aplicará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3518-867F-47D6-8705-008BD805059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327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329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ATENCIÓN DE AUDIENCIAS PROGRAMADAS -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ángulo 8"/>
          <p:cNvSpPr/>
          <p:nvPr/>
        </p:nvSpPr>
        <p:spPr>
          <a:xfrm>
            <a:off x="917640" y="4581360"/>
            <a:ext cx="6978600" cy="1008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* 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(Número de audiencias efectivamente atendidas / número de audiencias programadas) X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550440" y="1600200"/>
            <a:ext cx="75675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a obtener la Calificación Final del Factor Eficiencia o Rendimiento, se suman los puntajes obtenidos en los dos subfactores de respuesta efectiva a la demanda de justicia y atención de audiencias programad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E769-0ABB-46B6-89E6-A54903D4977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33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336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CALIFICACIÓN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ángulo 8"/>
          <p:cNvSpPr/>
          <p:nvPr/>
        </p:nvSpPr>
        <p:spPr>
          <a:xfrm>
            <a:off x="2717640" y="3141720"/>
            <a:ext cx="2700360" cy="5619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RESPUESTA EFECTIVA A LA DEMANDA DE 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ector recto 10"/>
          <p:cNvSpPr/>
          <p:nvPr/>
        </p:nvSpPr>
        <p:spPr>
          <a:xfrm>
            <a:off x="408636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onector recto 14"/>
          <p:cNvSpPr/>
          <p:nvPr/>
        </p:nvSpPr>
        <p:spPr>
          <a:xfrm>
            <a:off x="3941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ángulo 15"/>
          <p:cNvSpPr/>
          <p:nvPr/>
        </p:nvSpPr>
        <p:spPr>
          <a:xfrm>
            <a:off x="2706840" y="4370400"/>
            <a:ext cx="2711160" cy="6872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Calibri"/>
              </a:rPr>
              <a:t>ATENCION DE AUDIENCIAS PROGRAM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ector recto 17"/>
          <p:cNvSpPr/>
          <p:nvPr/>
        </p:nvSpPr>
        <p:spPr>
          <a:xfrm>
            <a:off x="2408400" y="5229360"/>
            <a:ext cx="33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ángulo 18"/>
          <p:cNvSpPr/>
          <p:nvPr/>
        </p:nvSpPr>
        <p:spPr>
          <a:xfrm>
            <a:off x="2703600" y="5335560"/>
            <a:ext cx="2711520" cy="6494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500" spc="-1" strike="noStrike">
                <a:solidFill>
                  <a:srgbClr val="000000"/>
                </a:solidFill>
                <a:latin typeface="Calibri"/>
              </a:rPr>
              <a:t>CALIFICACIÓN FACTOR EFICIENCIA O RENDIMI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7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76" name="Título 1"/>
          <p:cNvSpPr/>
          <p:nvPr/>
        </p:nvSpPr>
        <p:spPr>
          <a:xfrm>
            <a:off x="1249200" y="352440"/>
            <a:ext cx="3843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47360" y="1588680"/>
            <a:ext cx="7148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Artículo 35:   “La calificación se efectuará sobre el rendimiento de los funcionarios durante el período a evaluar a partir del  Egreso y la Carga en comparación con sus pares, es decir, los despachos de su misma jurisdicción, especialidad o sección y nivel y/o categoría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1A9C-0FDB-4E73-831C-89FC668595C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8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82" name="Título 1"/>
          <p:cNvSpPr/>
          <p:nvPr/>
        </p:nvSpPr>
        <p:spPr>
          <a:xfrm>
            <a:off x="1224000" y="368280"/>
            <a:ext cx="4103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CARGA DEL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FBFE-4DF9-49DE-9EA2-57C0CF9EAB8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50800" y="1413000"/>
          <a:ext cx="7640640" cy="2271600"/>
        </p:xfrm>
        <a:graphic>
          <a:graphicData uri="http://schemas.openxmlformats.org/drawingml/2006/table">
            <a:tbl>
              <a:tblPr/>
              <a:tblGrid>
                <a:gridCol w="7640640"/>
              </a:tblGrid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UE COMPONE LA CARGA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Inventario Inicial del Despach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reactivados durante el perío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ingresados durante el perío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que deben ser tramitados por el mismo Despacho por disposición legal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Incidentes de desacato en tutela de período anterior o recibida en el perío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50800" y="3357720"/>
          <a:ext cx="7640640" cy="3260520"/>
        </p:xfrm>
        <a:graphic>
          <a:graphicData uri="http://schemas.openxmlformats.org/drawingml/2006/table">
            <a:tbl>
              <a:tblPr/>
              <a:tblGrid>
                <a:gridCol w="2598840"/>
                <a:gridCol w="5041800"/>
              </a:tblGrid>
              <a:tr h="3204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ÚÉ NO SE TENDRÁ EN CUENTA PARA LA CARGA?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procesos suspendidos o interrumpidos en los últimos 6 meses o por disposición legal en archiv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procesos inactivos los últimos 6 meses por falta de impulso o no procede perención o el desistimiento táci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enviados a otro Despacho para descongestión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os remitidos por competencia o por impedimento a otro Despach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</a:t>
                      </a: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primera instancia, las denuncias, demandas, y acciones constitucio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hazadas o retir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recibidas durante los 3 últimos meses del perío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Acciones de Tutela que estén pendientes para fa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segunda instancia los recursos o grado jurisdiccional de consul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ueltos o inadmitidos, declarados desiertos y los desist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recibidas durante los 3 últimos meses del perío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Acciones de Tutela que estén pendientes para fa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71D8-4823-4C88-8F36-D1DC70215C7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88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90" name="Título 1"/>
          <p:cNvSpPr/>
          <p:nvPr/>
        </p:nvSpPr>
        <p:spPr>
          <a:xfrm>
            <a:off x="1224000" y="368280"/>
            <a:ext cx="4103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EFICIENCIA O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EGRESO DEL DESP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50800" y="1557360"/>
          <a:ext cx="7640640" cy="1920960"/>
        </p:xfrm>
        <a:graphic>
          <a:graphicData uri="http://schemas.openxmlformats.org/drawingml/2006/table">
            <a:tbl>
              <a:tblPr/>
              <a:tblGrid>
                <a:gridCol w="7640640"/>
              </a:tblGrid>
              <a:tr h="32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UÉ COMPONE EL EGRESO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l número de procesos en los que se profirió sentencia o decisión resolviendo de fond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Conciliación extrajudicial y el auto de aprobación o improbación del act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Conciliación Judicial debidamente aprobada por el juez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uto que decide incidentes de desacato en tutel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Segunda instancia auto que decreta la nulidad del proces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50800" y="3500280"/>
          <a:ext cx="7640640" cy="2901960"/>
        </p:xfrm>
        <a:graphic>
          <a:graphicData uri="http://schemas.openxmlformats.org/drawingml/2006/table">
            <a:tbl>
              <a:tblPr/>
              <a:tblGrid>
                <a:gridCol w="7640640"/>
              </a:tblGrid>
              <a:tr h="353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UÉ NO SE TENDRÁ EN CUENTA COMO EGRESO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n primera instancia, las solicitudes de la fiscalía o la policía, denuncias, demandas y acciones rechazadas o retirad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538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para fallo enviados a otro funcionario por descongestión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que al final de período están a cargo de otro funcionario en descongestión para sustanciación y fallo o sustanciación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rocesos sin sentencia o decisión que resuelva de fondo remitidos por competencia o impedimento de otro despach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n segunda instancia, procesos cuyos recursos o consulta hayan sido devueltos, desiertos o inadmitidos o que se declare desistimiento del recurrente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94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96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 Rectángulo"/>
          <p:cNvSpPr/>
          <p:nvPr/>
        </p:nvSpPr>
        <p:spPr>
          <a:xfrm>
            <a:off x="1062000" y="1557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pacidad Máxima de Respue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Rectángulo"/>
          <p:cNvSpPr/>
          <p:nvPr/>
        </p:nvSpPr>
        <p:spPr>
          <a:xfrm>
            <a:off x="747720" y="2454120"/>
            <a:ext cx="714852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entenderá como el cálculo del promedio de los Egresos del diez (10%) del total de los despachos de cada Jurisdicción, especialidad, sección y categoría que registren los mayores egresos del período a evalu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Sala Administrativa establecerá la cifra con anterioridad con base en las estadísticas suministradas por el SIER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lapso será entre el 1 de octubre del penúltimo año y el 30 de septiembre del último añ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0AA6-85B2-4A77-BF56-520AED35063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50440" y="1464840"/>
            <a:ext cx="74962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 CMR se aplicará de manera proporcional en el subfactor Respuesta Efectiva a la Demanda de Justicia, cuando en los despachos de la misma especialidad y categoría exista diferencia en las plantas de person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la totalidad de los despachos judiciales no reporte la información estadística, la Sala Administrativa Superior la establecerá con base en el rendimiento esperado o la CMR del período anterior, aumentada en un porcentaje de hasta del 10% con base en los estudios históric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Para el primer período la calificación de los Tribunales Administrativos del país, que llegaren a tener secciones, y que no reporten la información estadística, la CMR será la fijada para los demás Tribunales Administrativos del paí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F857-14F4-4596-AC95-59E8A830588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03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05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0040" y="1611360"/>
            <a:ext cx="7527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Egreso igual o superior a la CMR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 = 35 pun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Carga superior a la CMR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: se establecerá proporcionalmente sobre un total de 35 puntos con base a la siguiente fó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Carga inferior o igual a la CMR: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 establecerá proporcionalmente sobre un total de 35 puntos con base en la siguiente formul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6E38-E804-43D8-844E-51726EF6774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0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11" name="Título 1"/>
          <p:cNvSpPr/>
          <p:nvPr/>
        </p:nvSpPr>
        <p:spPr>
          <a:xfrm>
            <a:off x="1254240" y="349200"/>
            <a:ext cx="381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RESPUESTA EFECTIVA A LA DEMANDA DE JUSTICIA - CÁLC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ángulo 8"/>
          <p:cNvSpPr/>
          <p:nvPr/>
        </p:nvSpPr>
        <p:spPr>
          <a:xfrm>
            <a:off x="1422360" y="3284640"/>
            <a:ext cx="5904000" cy="4316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  <a:ea typeface="Arial"/>
              </a:rPr>
              <a:t>(Egreso / CMR) X 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ángulo 10"/>
          <p:cNvSpPr/>
          <p:nvPr/>
        </p:nvSpPr>
        <p:spPr>
          <a:xfrm>
            <a:off x="738360" y="5384880"/>
            <a:ext cx="7272000" cy="360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-Calificación del subfactor: </a:t>
            </a:r>
            <a:r>
              <a:rPr b="1" lang="es-CO" sz="2200" spc="-1" strike="noStrike">
                <a:solidFill>
                  <a:srgbClr val="000000"/>
                </a:solidFill>
                <a:latin typeface="Calibri"/>
              </a:rPr>
              <a:t>(Egreso / Carga del Despacho) X 35</a:t>
            </a:r>
            <a:r>
              <a:rPr b="0" lang="es-CO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21:22Z</dcterms:created>
  <dc:creator>CARMEN</dc:creator>
  <dc:description/>
  <dc:language>en-US</dc:language>
  <cp:lastModifiedBy>Jhon</cp:lastModifiedBy>
  <dcterms:modified xsi:type="dcterms:W3CDTF">2015-07-29T04:07:58Z</dcterms:modified>
  <cp:revision>503</cp:revision>
  <dc:subject/>
  <dc:title>Diapositiva 1</dc:title>
</cp:coreProperties>
</file>